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984-8225-4F0C-81A1-877DF45E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17C-E0DA-4EC6-8B3C-1E76EACF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658-7072-4916-9C70-98143835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F66-0E71-4618-A6FC-C44CAA19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60D6-B9F2-4656-906D-EDA56398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F81E-E131-48BA-9981-C4EFCA31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7BEC-FE5A-4A36-955E-0A6278BE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69AA-D4F5-45C6-87E5-39E2C156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456-6A73-43CF-9F59-5EF90AAF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1E60-619E-4E73-B1EA-7DA69739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499F-9A79-4560-947A-EF084748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F8B-2598-496A-8C48-54653D14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7D5D-1822-45D4-ABD2-1A80876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A6E6-11E8-4B07-90C9-6488B994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E4AE-BC89-4B59-8313-349B294B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D33D-5C5C-41AC-8E48-862AE903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F592-5873-45BB-97CC-9F8DDC7A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601-DA29-40DF-8637-D743621E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9C9-D8E2-4A16-855F-F6794509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C0F-06B8-4745-B12E-8D09F9CF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C80-D369-4B4E-A6A1-C252D0D3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062-CEAC-4986-8CB3-9C458ED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B43-4705-4F9C-944E-21B8115C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4D2-E2DF-4A94-959A-BC81F683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0DEE-0B24-4D8A-BC28-0B85B94537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28CE-7A03-4974-8F0B-7649167E65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800" spc="-1" strike="noStrike">
                <a:solidFill>
                  <a:srgbClr val="ffffff"/>
                </a:solidFill>
                <a:latin typeface="Arial"/>
              </a:rPr>
              <a:t>Bir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Bird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Bird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Bird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0:57:11Z</dcterms:created>
  <dc:creator>IT Manager</dc:creator>
  <dc:description/>
  <dc:language>en-US</dc:language>
  <cp:lastModifiedBy>IT Manager</cp:lastModifiedBy>
  <dcterms:modified xsi:type="dcterms:W3CDTF">2008-12-18T10:58:24Z</dcterms:modified>
  <cp:revision>1</cp:revision>
  <dc:subject/>
  <dc:title>Birds</dc:title>
</cp:coreProperties>
</file>