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F80B0B-4BE1-423E-B5AD-C035CC52C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F411DC-49A7-4FD1-BF31-F9F832550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A62D6-7331-41AE-85EE-EFDC7C835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C0DFA0-B807-4301-858E-F6DD83777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E25FF-139D-436D-8078-31FEBE1951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FE956-800C-47BA-8AED-23EE6A0CD3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AD4FF-E47C-4868-AC7F-9D73AC576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41C4B-D701-448E-B401-27BEB4C6F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C9629A-1BE3-4214-B405-7A3917498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CBE24-8F3F-4985-8E3E-8EFA5B26F5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2D954-B1CC-4C84-A03D-89477F835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D58FCA-E5D6-45A9-8794-DE695E0DA0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C923-5F4E-4DB7-97F4-95E00EFF8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A92259-EC20-41EE-91BB-3FC0FB6C0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4B662-CAFD-4562-91E1-69591BE2F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05B79-B303-46EC-8905-7A066E8CD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8E0957-4587-4351-AFB9-EFC6079B2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033D54-B87A-4EE2-AC42-1C6A2E3EF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F298A2-B685-41E9-A185-87DDE35C0D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049C2-DB74-47A7-92F9-55636CE4C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D9D53E-E3A6-4882-A271-DFC61A5F54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7EB647-B46D-4C1C-A9E9-978794005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D5817-BD24-40C9-8DC4-EAD109DC2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05AC32-7CBC-4B4A-A750-4EAF33699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39915E-72A0-4329-8DA7-F9CFA76B7348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64" name="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e0e0e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4b19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c1e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  <a:lnTo>
                    <a:pt x="576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70707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071E0-767C-4883-B4C0-A137AA6E677C}" type="slidenum">
              <a:rPr b="0" lang="en-U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160020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800" spc="-1" strike="noStrike">
                <a:solidFill>
                  <a:srgbClr val="ffffcc"/>
                </a:solidFill>
                <a:latin typeface="Tahoma"/>
              </a:rPr>
              <a:t>AnimalCare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South Afr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200" spc="-1" strike="noStrike">
                <a:solidFill>
                  <a:srgbClr val="ffffcc"/>
                </a:solidFill>
                <a:latin typeface="Tahoma"/>
              </a:rPr>
              <a:t>Contents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1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Tahoma"/>
              </a:rPr>
              <a:t>Bird3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/>
  <dc:description/>
  <dc:language>en-US</dc:language>
  <cp:lastModifiedBy>Esmé</cp:lastModifiedBy>
  <dcterms:modified xsi:type="dcterms:W3CDTF">2010-01-22T10:57:29Z</dcterms:modified>
  <cp:revision>4</cp:revision>
  <dc:subject/>
  <dc:title>AnimalCare</dc:title>
</cp:coreProperties>
</file>