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7351D-1156-468F-9D87-A2E23094B7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ADF1B-3992-4595-A2E7-90D207471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5BF45-6079-44FE-A9B6-58DC9BCDC6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9C021-A600-4B5E-A7EC-085793B978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959B9-1679-432C-ADB5-F44C8207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AADD4-100D-4097-B50F-C9CFAE36F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425468-C703-42F5-AD5C-BF780E304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153EA-AE08-4DC0-AE3B-4837E51E76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1ECC36-6093-4EA9-ACF3-0C5945E1B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953B6-9192-4C53-BAA1-EA49CE61ED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8E373-B602-47AB-A9A3-9E46593E9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C664B-550D-4594-8B9E-C15DA1977A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EDEAC-341E-42EF-A486-B4C8BE662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8DDE4-8177-48F2-AD45-F98BD9CDE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AC995-8992-472D-8728-AC1773188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03A41F-D292-4B10-9326-FE20314CD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0224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766560" y="160020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243828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460224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766560" y="3948480"/>
            <a:ext cx="206064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B525D-3C55-468A-8DC7-6B8A452DEC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08A8A-9ADA-453D-91A9-1D77A58CD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28357-FFA2-49B5-AC96-C59B60CDC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E4B0-E5C8-4D70-A6A7-1C0581444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8280" y="228240"/>
            <a:ext cx="64008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053F-E19A-44EE-95A2-D41CD07F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E1B51-4D7E-43A1-AB42-80E6D204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718240" y="394848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D0725-9563-446D-851A-189C653F4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718240" y="1600200"/>
            <a:ext cx="3123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438280" y="3948480"/>
            <a:ext cx="6400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529-5796-45C4-8EF6-AE05731B9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2666880" cy="6858000"/>
            <a:chOff x="0" y="0"/>
            <a:chExt cx="2666880" cy="6858000"/>
          </a:xfrm>
        </p:grpSpPr>
        <p:sp>
          <p:nvSpPr>
            <p:cNvPr id="1" name=""/>
            <p:cNvSpPr/>
            <p:nvPr/>
          </p:nvSpPr>
          <p:spPr>
            <a:xfrm>
              <a:off x="198108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3737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213984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8c0039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7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95480" indent="-22140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95480" indent="-221400">
              <a:spcBef>
                <a:spcPts val="7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151920" y="6248520"/>
            <a:ext cx="1901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02EFE6-9A52-4B60-AFF2-0B1C07CD8BAF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6268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F231B-60D3-40D3-AE71-571114B9ED3B}" type="slidenum"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c36c03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837720" y="1371240"/>
            <a:ext cx="7620120" cy="205740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000000"/>
                </a:solidFill>
                <a:latin typeface="Arial"/>
              </a:rPr>
              <a:t>Cats and Dog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2362320" y="3429000"/>
            <a:ext cx="6400800" cy="1447920"/>
          </a:xfrm>
          <a:prstGeom prst="rect">
            <a:avLst/>
          </a:prstGeom>
          <a:solidFill>
            <a:srgbClr val="ffffff">
              <a:alpha val="50000"/>
            </a:srgbClr>
          </a:solidFill>
          <a:ln w="7632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South Afr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Content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Bird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2438280" y="228240"/>
            <a:ext cx="64008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600" spc="-1" strike="noStrike">
                <a:solidFill>
                  <a:srgbClr val="8c0039"/>
                </a:solidFill>
                <a:latin typeface="Arial"/>
              </a:rPr>
              <a:t>Tours</a:t>
            </a:r>
            <a:endParaRPr b="0" lang="en-US" sz="3600" spc="-1" strike="noStrike">
              <a:solidFill>
                <a:srgbClr val="8c0039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2438280" y="1600200"/>
            <a:ext cx="6400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he tours take place on a quarterly bas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All interested may att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4005c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000000"/>
                </a:solidFill>
                <a:latin typeface="Arial"/>
              </a:rPr>
              <a:t>Tour destinations may vary from year p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8T10:57:11Z</dcterms:created>
  <dc:creator/>
  <dc:description/>
  <dc:language>en-US</dc:language>
  <cp:lastModifiedBy>Esmé</cp:lastModifiedBy>
  <dcterms:modified xsi:type="dcterms:W3CDTF">2010-01-22T10:58:11Z</dcterms:modified>
  <cp:revision>8</cp:revision>
  <dc:subject/>
  <dc:title>Cats and dogs</dc:title>
</cp:coreProperties>
</file>