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8300-CD8F-40F9-BA04-E86E904C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3B543-6B4C-43FB-B189-3E29B6F2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81B2-59F9-44D7-83F3-FF927A1F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CB6A-2EF6-4C59-BB29-D502FCF0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F536-1FBC-4553-B9B9-70395FC1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9645-6F62-4287-B402-397B2205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E43A-D3AB-4FD4-B716-37EED712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B3FB-8236-4D22-8840-8F882C1C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8449-9C2E-4F85-A8EC-4E718B96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9C5D-F57D-4662-9FF3-675F4C42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340A-B940-4256-8E39-3527B23D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E968-23FC-4379-A107-FA3842B8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87CA-E19B-4C43-B8F7-AC9D9E91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75D8-8EA8-4D8D-B1AE-0D83E20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3EE5-BA83-48A6-839F-30605FCD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3E0E-977F-4D20-BE42-75C57404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91CF-1D83-4EC1-B77A-1FE92492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80EC8-7B97-46BB-86F2-532DA9E5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F838C-77A1-40A4-B84B-24BD2840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7FCF-4F33-4396-BAAF-03B24CC5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1579-4ABF-454E-8605-3E6CE0C9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BBC8F-DBC8-41DC-96D7-ECA0542B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1E519-F2F1-46B3-928F-6480B5B7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BB98-45D9-402B-A69E-331BD1DA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3B2A-ADAB-4672-9B28-BFE56B8C07F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E227-D7BA-4C26-8F8E-336477A9219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800" spc="-1" strike="noStrike">
                <a:solidFill>
                  <a:srgbClr val="ffffcc"/>
                </a:solidFill>
                <a:latin typeface="Tahoma"/>
              </a:rPr>
              <a:t>AnimalCar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South Af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200" spc="-1" strike="noStrike">
                <a:solidFill>
                  <a:srgbClr val="ffffcc"/>
                </a:solidFill>
                <a:latin typeface="Tahoma"/>
              </a:rPr>
              <a:t>Conte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200" spc="-1" strike="noStrike">
                <a:solidFill>
                  <a:srgbClr val="ffffcc"/>
                </a:solidFill>
                <a:latin typeface="Tahoma"/>
              </a:rPr>
              <a:t>Conte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200" spc="-1" strike="noStrike">
                <a:solidFill>
                  <a:srgbClr val="ffffcc"/>
                </a:solidFill>
                <a:latin typeface="Tahoma"/>
              </a:rPr>
              <a:t>Conte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0:57:11Z</dcterms:created>
  <dc:creator/>
  <dc:description/>
  <dc:language>en-US</dc:language>
  <cp:lastModifiedBy>Esmé</cp:lastModifiedBy>
  <dcterms:modified xsi:type="dcterms:W3CDTF">2010-01-22T10:57:29Z</dcterms:modified>
  <cp:revision>4</cp:revision>
  <dc:subject/>
  <dc:title>AnimalCare</dc:title>
</cp:coreProperties>
</file>