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502-4D3D-4E1B-85B8-0F9261D7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EC0-28E9-4672-87FF-136CDE77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4D8-A917-46BA-AFA7-EF5C2A0A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C85-847D-4415-9DC2-A80854BF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0BD1-085A-4DC4-9E4F-FB3EE4BD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E40-95B3-4E05-99D3-BC73703A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F9DD-202F-4DB2-A50D-2DA4F4FE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3129-C7D8-44E1-90ED-3F7A35B6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2ED4-8CD6-4B74-B8BA-14C7A9ED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AFC8-5350-480B-98FC-6607065D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E85D-279C-49B4-90FF-9F874E3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BF8-A09A-4F28-863F-2C9FF0E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2A6C-ED33-47AC-92B0-CB371B7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8CB7-A80B-4010-A035-A8FD07F5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345E-0C3B-4B69-AFC8-35123685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3EC1-E65A-41BA-8965-6A07DC2D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104D-BC27-4FAF-A44C-3BB8B47A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413-DEA2-46CD-97B6-35251384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65B-F731-4E3A-9390-B3082CE1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810-BE59-48E6-A123-8651483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059-A78E-47E2-9E57-48E494B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7DA-9E9F-4811-9054-F2DF237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442-73EB-41B5-BC83-66111AC3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079-5C4E-4F25-B385-49B3FFBC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E244-C319-430A-AFD8-154158B6A8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C248-8611-40A9-A1C8-95933B5054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000000"/>
                </a:solidFill>
                <a:latin typeface="Arial"/>
              </a:rPr>
              <a:t>Cats and Do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57:11Z</dcterms:created>
  <dc:creator/>
  <dc:description/>
  <dc:language>en-US</dc:language>
  <cp:lastModifiedBy>Esmé</cp:lastModifiedBy>
  <dcterms:modified xsi:type="dcterms:W3CDTF">2010-01-22T10:58:11Z</dcterms:modified>
  <cp:revision>8</cp:revision>
  <dc:subject/>
  <dc:title>Cats and dogs</dc:title>
</cp:coreProperties>
</file>