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AA16-8342-458D-AF71-322200686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7819-99C7-488B-9114-B6EC3438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AE90-E855-4744-8A49-4B73CA2E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306-3961-43A5-A6F4-C2733A68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E215-4C94-49CA-B92B-220F80DD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9E81-2427-4AC2-B14E-5F216B42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ACF2-1033-40A1-8E7C-B3CCDB7B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388-10F5-4F98-8708-B9C07FB2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7EE4-1474-4F34-949B-C2F46129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806-1E59-4F1B-96BF-55AE89AF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8DD-4B91-42FD-8967-B40DAF06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44B-E1B2-48BA-A4C8-93834961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4845-3541-4AEA-B805-F4E462312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0:33:43Z</dcterms:created>
  <dc:creator>NSC72</dc:creator>
  <dc:description/>
  <dc:language>en-US</dc:language>
  <cp:lastModifiedBy>NSC72</cp:lastModifiedBy>
  <dcterms:modified xsi:type="dcterms:W3CDTF">2009-07-08T10:34:04Z</dcterms:modified>
  <cp:revision>1</cp:revision>
  <dc:subject/>
  <dc:title>Slide 1</dc:title>
</cp:coreProperties>
</file>