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975-AE08-4B28-9FDB-B026DEDC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6B5-B82E-4F96-B237-7FC905B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634-1737-4900-B1D9-7F3707F0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A28-7712-4301-9041-7363DDE1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C2E-CC5E-405C-B35E-D935652C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291-E014-4B19-B2DF-0D334E6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647-B30E-498C-BE36-A536F0AF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371-958E-49D6-B119-3F6D232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D79-0405-4847-8466-CA03880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1F9-863E-4CEE-BE74-9411975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ECB-6E91-4EAD-9671-109D023F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E8A-B855-4010-8D5E-AD19BE59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E4E-F2DB-4C84-B72A-8E268394F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0:33:43Z</dcterms:created>
  <dc:creator>NSC72</dc:creator>
  <dc:description/>
  <dc:language>en-US</dc:language>
  <cp:lastModifiedBy>NSC72</cp:lastModifiedBy>
  <dcterms:modified xsi:type="dcterms:W3CDTF">2009-07-08T10:34:04Z</dcterms:modified>
  <cp:revision>1</cp:revision>
  <dc:subject/>
  <dc:title>Slide 1</dc:title>
</cp:coreProperties>
</file>