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67F-00CD-4E4E-953A-BF16D812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9EF-8BFA-4225-9E85-EA8DD08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C7286-D75C-4A4E-A05F-097FB86C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66116-12ED-4398-9A93-D1DB9BF1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425F1-5316-4A0D-AA49-49817AD6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C2834-73B9-438C-A803-4D8FBDD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71337-8C48-4BFD-9672-37D5AA5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6E7D0-93AD-4F0A-A4B9-DFCB59E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126E4-8FD8-44F7-9DD8-B2184B96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6D20A-C8E6-487D-A0A8-C2BC0FEF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53219-3FF3-4C5A-B21C-36F46315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E22-103D-4908-A1C3-DE4C3AC0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410-2BBA-4762-A76D-1B1FB540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D011D-3354-4E83-A9BB-428B283B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CBD0-D8B5-49A1-89D7-1E9AF39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60547-B9FA-4EDE-A129-63E24375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3F502-5DBD-49F6-8DD9-D3487FE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16ED-9664-46C5-A799-0E7A6C9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13A43-B405-419C-8720-024E748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1D0DB-B458-4FB5-8C3B-CAC9AB3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3FE-9908-4693-9BE1-950B403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BFA91-3851-49E3-A2C1-B444F77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15A91-6689-4862-B8D9-D664F83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4930-2F77-491E-B2BD-9F288CF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1FE9A-C121-4860-A9A5-156A1F73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B8D9-CDBA-4226-B8D5-26764C15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D085-A4B1-45D5-BF51-DF31C39E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DC5B-24CB-456A-B1FD-5EB69BDD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F89A-DD73-4781-A566-5E55558B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0357-D031-4179-AADB-4ECD102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6314-1248-400D-B5A6-3370B18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A48-989F-4D86-8D2E-DBC9FE6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3DAF-5687-4F88-94C6-52F514C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6B82-8995-4AF8-89FE-C5CCD14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7072-6B60-4F76-A24D-A24E8C8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FB19-8A62-43E2-B273-64416A9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97D5-4635-4583-9FBD-E5CEA627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83C3-F170-44A3-8AB3-76555C1A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ADE8-982A-4C8C-8D86-C4509FE6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505D9-2D7E-4424-BD41-DDCEF900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5BF98-6928-4CDB-8DF8-46E81CB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42D3E-A118-48B7-BEBD-0C348E72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16E-323F-4370-950E-9D736E3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085B8-D048-4FDB-A6E6-84D85135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3472E-A31B-4EEB-A2F6-5053A1FA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B26ED-44CB-4D23-BAA2-34D9872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F4989-2C72-408F-B889-A4FADE8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70CF1-C351-4EC7-9654-5E6AB40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18DEF-114A-4FF2-B4B9-E15A60B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90DF3-90F3-461A-A8F7-48F5862A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9A36B-7E10-44E6-A703-BA7A260D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951C9-3C0E-4C78-9DF4-536BEEE8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D973-887E-4B64-8204-246CE818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62D-145C-4453-BBD7-3A0D4242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51CF-13D4-434D-BEAF-4D6C13A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7BAC-5F35-4C5B-9969-DFA9D4FE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0FA6-6C76-43EF-BF26-28C3B2D0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46E5-CB4C-4FC1-AFAC-514F6FB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9C7F-5B10-4492-A590-804353C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993B-3065-4380-B808-9A3ADB95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795F-26E1-4E22-A8CC-8618767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E7E97-E927-46F5-B046-82EBC7A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E28A-238B-4C8E-8F80-DEDA08D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D635-0D58-4772-AC53-FEF0801E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0DD-9ADF-4C02-86BD-1B8E65A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6923-E7A1-49A3-9CB9-68DD8625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7FA7-4F5B-4154-95D8-B74B57F5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43E0-B757-4B25-A0F0-99C26962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FBE1-4A18-4B4D-89FF-909A7CB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030F-3C5B-45D3-9B00-7974080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3CC9-6A61-4833-88B0-F5AD4E9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68F8-E7E0-4E4F-B2F7-092D6C2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C474-01D5-4427-87BC-D54F407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979F-5387-4596-9FAE-733B7A2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BA9F5-9324-417A-AD9F-2F426CA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97C-A522-40B5-8CC8-3A14431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80B3-64B1-41A6-9E83-94A3A580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B5324-7C13-41E1-92C5-10EF41D1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06F2-6954-4DB1-801C-26CB1638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1D03-9D1B-46C9-9653-CD0945D1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9DF7-08E3-4A5A-9CAF-C1C420C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BCCA-DD27-4D58-89E7-19DE0AD3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D663-385B-4E5A-8D31-25D29CD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202EE-E741-4694-8F8A-27C8736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FCF4-D6F3-4D02-BA56-3AF487E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DB01-CB7E-45BE-9AFE-977C07E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6B4-98E1-4FD8-921D-4804C38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B365-67F7-4A67-8D91-C2B2BB7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AFAB-8817-4FF3-8504-B25DEA1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94C5-C936-454B-BE60-EED87BC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CBD4D-BB93-496E-9010-987AADEF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C4D3-133B-495A-8BDA-839CDF14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F2282-021A-4381-891E-6DC952B7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E4A55-84ED-4167-94CD-B0EBE6D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F060E-A5A1-452C-820E-4F29345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9ABC9-9F88-48E3-B0F5-4D6C19C5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72E13-95DB-4BD1-8517-7681F01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19B-9EBE-4ADD-BABC-132E851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5AA4D-B4E3-4B07-BA27-CCC05D4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17057-7A87-457B-B104-FCBC773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3AFC6-A59B-4C7A-B586-7FB011F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668C7-0475-45DE-BCA3-8534515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0A0540-A3EC-4707-AD8B-94C7BD7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8B260-3660-455A-ABB0-361875B6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F14589-3AC8-4B9F-AA30-72D939DA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5F315-F2C0-4B10-B2FD-8FAAEE8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B04A1-014C-48CE-94C5-DF5D7E6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FFA0FD-AA13-4A4D-A264-72E2BD6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9E6-A536-4E39-AA60-2382D0F254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2063-E9C9-4037-A01D-41BD4BD887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06C2-D7B3-45D0-99D2-57E0D680F2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1EB-9ADC-4456-BC65-E654DEC476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7F5-391D-46C4-9E8B-BD1B1F8A6C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D56-0B5E-4B09-BC2A-DA36DCED2C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1A8E-33BE-4E51-A725-E7D616E1C6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0DB-A844-4140-9BDB-F32F43A9A1A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8D9-ED03-490D-AECD-A6B20BE97A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01760" y="249120"/>
            <a:ext cx="229212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Public\Documents\DATA FILES NOV\q1Data\Tshabalala.jpg"/>
          <p:cNvPicPr/>
          <p:nvPr/>
        </p:nvPicPr>
        <p:blipFill>
          <a:blip r:embed="rId2"/>
          <a:stretch/>
        </p:blipFill>
        <p:spPr>
          <a:xfrm>
            <a:off x="990720" y="2590920"/>
            <a:ext cx="2447640" cy="1866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Users\Public\Documents\DATA FILES NOV\q1Data\Benni McCarthy.jpg"/>
          <p:cNvPicPr/>
          <p:nvPr/>
        </p:nvPicPr>
        <p:blipFill>
          <a:blip r:embed="rId3"/>
          <a:stretch/>
        </p:blipFill>
        <p:spPr>
          <a:xfrm>
            <a:off x="5638680" y="2666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8:37:16Z</dcterms:created>
  <dc:creator>exams</dc:creator>
  <dc:description/>
  <dc:language>en-US</dc:language>
  <cp:lastModifiedBy>hannelie</cp:lastModifiedBy>
  <dcterms:modified xsi:type="dcterms:W3CDTF">2011-08-27T19:58:03Z</dcterms:modified>
  <cp:revision>5</cp:revision>
  <dc:subject/>
  <dc:title>Slide 1</dc:title>
</cp:coreProperties>
</file>