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667A5-320F-4FB8-A3BC-FE6B7A03C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D188E-5FD7-49A6-8095-C771E2EF4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3DA70D6-71DD-414C-80FE-A3B8FA519B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9C84F8A-176E-4C37-B97C-89235D39D5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5A11C0A-E10E-47D4-969F-08ED73EB70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2114119-64F9-47C5-9B93-0C0F9F091D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967C5C2-9F94-4B69-9E05-724F6B272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814CC1B-8A5B-42F6-BA88-415511F519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8CBD473-C567-4293-ACD9-493FAE496C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4A4A16C-38E8-48F1-B3E4-1513C5359A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EE769A5-BE25-4892-B632-B5E02EEFCE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C687CEC4-FA93-4D18-A1F3-8BBB7A18DF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46005-1F64-44A6-9BFF-738211BE2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BC9C9B4-1C7D-40DF-9E64-CF606A8C85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9EC97D9-8335-4BF9-A63F-65E2C8302C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1FDB2F4-180E-4C47-9FD5-EBB41A8672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AF2AAFFC-C9FC-486A-AB15-5C0C5D573C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362EFAF-FA5C-4136-8834-5E32EFD7AD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3FAAE7F-E5D3-4569-B605-C7E666785C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31ACA7E-C0A4-46A4-9F65-7EA02440DE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EB8CE29-0E97-44B4-8FC4-C0DF82C29D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EBC1739-9C8B-4550-97BF-8E09331A54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40CE1DF-32A6-47C3-9AFD-789D7640D2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13CAC-F013-4D9A-8C4A-625CA298B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41F1E9B3-3549-484B-8752-9B0B7EBD23B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A90554-34BF-449E-8DE0-7F6E882E565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BF7EE9-A299-404A-8F96-C1F75B350F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CA880D-02D2-41A6-9F87-7003EEDECC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0DFF82-2095-4C77-B57D-0199FE1961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AA0C03-E046-43EF-8FA2-A123DE1235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80E398-E2A8-4EFB-97B2-08FE604FE5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514C0C-03CE-4CB8-B97D-32DC39602B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844E08-26C5-4E41-A91F-440C48A452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26F924-207E-490D-8AB0-DD13D7BFDE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D8357-3FEA-41FB-AEFA-41E06AB87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A491C5-6081-4804-843B-154CD1647A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7F2230-34B0-4589-A0F3-5DB03745A4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5D9D59F-1A39-4F50-B6D5-B86391F484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BA9FCDD-6A83-4B75-B5E8-689EF661396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753204-8F79-45CE-974E-2FA7B3D45E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8152C2-CECF-4966-A93F-42D5CB2CAF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38BA7F-C0EC-404E-A01E-5EBC5FB27A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5D1C84-40AF-45D0-99C2-E43BC2A02E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4F8DC7-94F7-44AD-B414-FD961F092D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591C4A-C187-4BCF-B97B-9D90B85B47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C3DCC-63B0-43DA-A689-DE1393D96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A5ABB8-F257-4B1D-8A27-97EEF2AD5D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5A6D3D-0526-4FD4-888A-B9FF930334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10E8E1-692F-42FA-B158-41B9027BE0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F72945-972B-4D5A-B71D-579F62F2492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B94CCB0-2151-4A08-BFB1-74CD000ECB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D984E-C992-40E9-BCBA-7E6526A82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8E83B-5A18-42AA-9FD9-645F92F73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E1B25-76FA-472D-AE44-B76A327B2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360CF-DFF8-4672-8618-5CCD20048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7B20F-FF17-4890-99C5-4ED05F4AC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DD840-8C9C-4A1B-A7D0-53B8F486D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937D2-F94F-448B-8724-A5506391F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BD4B5-4051-4ADE-95E3-E9985C97E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DD81D-CED7-4FA5-AEF2-721625261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C3930-EA75-4AF8-A99A-C16AB3E7F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4189C-CAAA-422B-B11F-C661B8A09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FE0CA16-03A5-4D5E-95C8-1A90BB020E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8AE2A7-C4DA-416D-B447-2A5C68FA33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F678111-AC93-412C-89C4-850E7564E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CF204E-8A12-4C4E-987B-0685B187F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2FDA0CB-F71D-4CB7-B024-89B1CFF42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3A285-B93F-4F3C-9D0E-9EBC5AB2D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ECF149-0DF1-4C4A-872B-234B42942B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05CDD5-86C6-4400-B895-AFA4E1BB3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5BBD84-AF42-49DD-8B37-D8067494E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543AE1-8904-46DC-A5A6-71708EAD9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CA6C8F2-08E9-40BD-92AF-D3BF9C1DE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4E32075-6047-4409-B593-4139DCF95F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E1C2757-3411-4C28-925A-5ED60FDBA6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BB1CC6-991D-46D6-B8EB-884E1A7C6E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D226FC-0F8D-4269-8DA3-E49D119BA8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B9E87C-1AD0-4C79-B684-AA76B8F0D7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8574C-4E43-454C-A04F-693DECCE0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3E2BD6-ADD1-4321-91B8-6264B1CAE9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F1A03-5BA6-4A31-A874-3FE36703DF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F07604-5613-4985-A9C7-85A37DB557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CF486-AB56-40C0-ADD5-AD616EE0C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94224F-D2FA-44B1-9268-04AB23C26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8948AE-0747-4FF0-A8E7-0E13E26BA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23BA20-8885-458C-BAC9-95A7EA124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3AF784-4280-4D8F-B20B-20DD85F717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A1701D-C248-43C4-86DF-6674CE3600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BF1F24-D43F-453D-9E40-49B7ADE2F6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27DBA-2A00-439F-B2A4-0DE63123C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7BBC4F-3AD8-4835-8C7E-29AA739037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B7328E-997D-4EA3-A204-D0A48AE521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01DA25-571A-4B81-A0DD-373DA32F85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F9FC1C-2C53-41D4-98F1-B743325160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EE1EEB-CA00-4EEB-B2CC-19C79CD478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B8CBE-9CA3-4513-83D8-42045F833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560185-CE34-448B-B0A4-62D1BC4E2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CF216-4D57-4395-B46E-E55358EC7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6668E2-2FC8-4740-8141-3DA381BCE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8C796C-542F-422F-8CCF-42F29534BF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C135B-DAE0-4297-851F-350409FA9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8AC200-E02F-4E3A-8896-54D34EFFA5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2AF197-481F-488E-AF62-0CDAD2A471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8E31E5-A874-4A6F-80B8-D9F1705A3C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1AA7B0-8536-426B-AB56-9D20434932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4C688C-BA39-4607-AAF7-62DFFF16C8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0974DC-7DDE-45F2-B030-4DBC392A9C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B05B7F-1D9A-4237-86CE-65B02684F5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B0DE1D-9DD4-4BBD-B232-2EDDCAD850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F518A2-B6F3-46ED-A710-3D0428532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FDD8A-85BD-4298-B0B7-B9B370327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AAD64-1DEF-4859-A747-140125E94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B22085-D74F-4E15-ABDB-4F79E717AB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D7F7F9-B074-40B2-8FF2-4379C16FC2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934862-9C4C-47EA-B50F-785FBB5E4E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32237C0-84DC-4BAD-B2D6-7A04AB7117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544BB91-5EA5-4FF5-95BE-3C27FCD524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9E9833-FE06-4AD8-88AB-FBE552B5DD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60BF169-3FE0-4FBD-9521-346F0F9A77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C78A31D-4BA1-4260-8CCB-0BA209BB39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AADC53-CD92-4404-BB39-0B72930D6E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4EA757-68C5-4E40-B1EC-33846E7DA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8910B-B912-4968-9636-7F0C232FD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8186C7-A685-479D-AB14-83C5AD8EF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EDB8BFB-634A-4455-AB2B-A0C556BD07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2F0E33D-B412-4EB3-8F29-2E73EC15D0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5E54364-FC32-4A68-A9E2-270663363E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DEC00B2-65F5-4C45-95B6-3171C89AFD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7DB515-D761-46BE-A5FC-F8EAFCC740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3E37A4-DEE7-41E3-A014-0A124165DE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2F3C75-1CCC-40BF-8771-2D635B2EF4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4B62A8-DF96-40FA-8431-9CAE0503B7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FAB56F-1FFD-446C-97CB-C96D7F6BAF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DC1C2-483B-47F6-9E05-17293444F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11D069-94AB-4BDA-B9D1-2851E7070A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B8A4F0-E539-42E7-AE02-A153666376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143D28-406A-4D2A-A1F2-E06C2AAB8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320D41-CBDB-4EAD-A023-42821B237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229FC6-BF8F-4715-ACD5-623B152D96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CB113D-F16F-4A20-ACC1-B4B070C531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B5EF7E-BA6C-4DD0-9B0B-4F17A02539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E0F1FCC2-F280-43C2-9A26-89F60032FC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497881C-BBD3-4B53-9DB9-1C1F923A9D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91232B6-8989-479D-A046-355499E7AF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C958-6443-4002-A19D-ED8A4E06AC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45"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46"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47"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48"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49"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50"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53"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743D-7941-49A5-8AF4-E3BDDF39CA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5"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9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9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9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9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9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00"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501" name="PlaceHolder 4"/>
          <p:cNvSpPr>
            <a:spLocks noGrp="1"/>
          </p:cNvSpPr>
          <p:nvPr>
            <p:ph type="ftr" idx="3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2" name="PlaceHolder 5"/>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32C5-D69E-4DA8-B3E6-E566345446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4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47" name="PlaceHolder 3"/>
          <p:cNvSpPr>
            <a:spLocks noGrp="1"/>
          </p:cNvSpPr>
          <p:nvPr>
            <p:ph type="dt" idx="3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548" name="PlaceHolder 4"/>
          <p:cNvSpPr>
            <a:spLocks noGrp="1"/>
          </p:cNvSpPr>
          <p:nvPr>
            <p:ph type="ftr" idx="3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9" name="PlaceHolder 5"/>
          <p:cNvSpPr>
            <a:spLocks noGrp="1"/>
          </p:cNvSpPr>
          <p:nvPr>
            <p:ph type="sldNum" idx="3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7D70-C9C5-48DF-A51C-09AC32F647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C308-476D-4A37-8D3E-EB9664D52E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6E96-661A-4D9B-A343-E8CA2FE4D6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96A4-684F-4C30-B86D-C29CC6A347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8" name="PlaceHolder 5"/>
          <p:cNvSpPr>
            <a:spLocks noGrp="1"/>
          </p:cNvSpPr>
          <p:nvPr>
            <p:ph type="sldNum" idx="1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8C07-CBE7-4871-99FE-C2549EDBA0D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3"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4" name="PlaceHolder 4"/>
          <p:cNvSpPr>
            <a:spLocks noGrp="1"/>
          </p:cNvSpPr>
          <p:nvPr>
            <p:ph type="ftr" idx="1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5" name="PlaceHolder 5"/>
          <p:cNvSpPr>
            <a:spLocks noGrp="1"/>
          </p:cNvSpPr>
          <p:nvPr>
            <p:ph type="sldNum" idx="1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AB98-28E5-477B-BB1C-CE9D7DC470B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0"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1"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B0B4-39E2-4FB7-9E58-31953495C0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2"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5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5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5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5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7"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58"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9"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29C4-59E4-4D8C-B914-C51A2CE46FC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97"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98"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99"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00"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1"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02"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5"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06"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F8E4-5B1A-4CA7-B319-14C9CA8048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7"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hyperlink" Target="http://www.thecareersportal.co.za/learnerships.html"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CENSUS AT SCHOOLS</a:t>
            </a:r>
            <a:endParaRPr b="0" lang="en-US" sz="3000" spc="-1" strike="noStrike">
              <a:solidFill>
                <a:srgbClr val="575f6d"/>
              </a:solidFill>
              <a:latin typeface="Century Schoolbook"/>
            </a:endParaRPr>
          </a:p>
        </p:txBody>
      </p:sp>
      <p:sp>
        <p:nvSpPr>
          <p:cNvPr id="587"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Finding out more about Academic needs for learners</a:t>
            </a:r>
            <a:endParaRPr b="0" lang="en-US" sz="1800" spc="-1" strike="noStrike">
              <a:solidFill>
                <a:srgbClr val="000000"/>
              </a:solidFill>
              <a:latin typeface="Century Schoolbook"/>
            </a:endParaRPr>
          </a:p>
        </p:txBody>
      </p:sp>
      <p:pic>
        <p:nvPicPr>
          <p:cNvPr id="588" name="Picture 1" descr="C:\Program Files\Microsoft Office\MEDIA\CAGCAT10\j0301252.wmf"/>
          <p:cNvPicPr/>
          <p:nvPr/>
        </p:nvPicPr>
        <p:blipFill>
          <a:blip r:embed="rId1"/>
          <a:stretch/>
        </p:blipFill>
        <p:spPr>
          <a:xfrm>
            <a:off x="3352680" y="1447920"/>
            <a:ext cx="365760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RODUCTION</a:t>
            </a:r>
            <a:endParaRPr b="0" lang="en-US" sz="3000" spc="-1" strike="noStrike">
              <a:solidFill>
                <a:srgbClr val="575f6d"/>
              </a:solidFill>
              <a:latin typeface="Century Schoolbook"/>
            </a:endParaRPr>
          </a:p>
        </p:txBody>
      </p:sp>
      <p:sp>
        <p:nvSpPr>
          <p:cNvPr id="59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entury Schoolbook"/>
              </a:rPr>
              <a:t>High school </a:t>
            </a:r>
            <a:r>
              <a:rPr b="0" lang="en-US" sz="2000" spc="-1" strike="noStrike">
                <a:solidFill>
                  <a:srgbClr val="000000"/>
                </a:solidFill>
                <a:latin typeface="Century Schoolbook"/>
              </a:rPr>
              <a:t>is a very important time in a teenager's life - a time to learn more about one's self and a springboard for future careers. The classes that you choose can help you understand both personal interests and career-related interests, and such are very important..In most students it is so difficult to know what academic subjects they should take and if those they choose will meet their career choices. In this task we are looking at the main reasons why most learners fail the subjects they chose to do and how we can solve that problem. Doing census at school is a much better method of finding the result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00"/>
                </a:solidFill>
                <a:uFillTx/>
                <a:latin typeface="Century Schoolbook"/>
              </a:rPr>
              <a:t> </a:t>
            </a:r>
            <a:r>
              <a:rPr b="0" lang="en-ZA" sz="2000" spc="-1" strike="noStrike">
                <a:solidFill>
                  <a:srgbClr val="000000"/>
                </a:solidFill>
                <a:latin typeface="Century Schoolbook"/>
              </a:rPr>
              <a:t>Learners will be given census at school questionnaire to complete at school with guidance of the teacher. The questionnaire consist of the students obtained marks in his or her subjects, the career field of study. The questionnaire will be helping as to evaluate the understanding of the learner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00"/>
                </a:solidFill>
                <a:uFillTx/>
                <a:latin typeface="Century Schoolbook"/>
              </a:rPr>
              <a:t>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W CAN INFORMATION ABOUT ACADEMIC NEEDS HELP ONE  MEET THEIR CAREER </a:t>
            </a:r>
            <a:endParaRPr b="0" lang="en-US" sz="3000" spc="-1" strike="noStrike">
              <a:solidFill>
                <a:srgbClr val="575f6d"/>
              </a:solidFill>
              <a:latin typeface="Century Schoolbook"/>
            </a:endParaRPr>
          </a:p>
        </p:txBody>
      </p:sp>
      <p:pic>
        <p:nvPicPr>
          <p:cNvPr id="592" name="Diagram 2" descr=""/>
          <p:cNvPicPr/>
          <p:nvPr/>
        </p:nvPicPr>
        <p:blipFill>
          <a:blip r:embed="rId1"/>
          <a:stretch/>
        </p:blipFill>
        <p:spPr>
          <a:xfrm>
            <a:off x="1901880" y="2846520"/>
            <a:ext cx="5499000" cy="33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IPS ON HOW TO CHOOSE YOUR SUBJECTS</a:t>
            </a:r>
            <a:endParaRPr b="0" lang="en-US" sz="3000" spc="-1" strike="noStrike">
              <a:solidFill>
                <a:srgbClr val="575f6d"/>
              </a:solidFill>
              <a:latin typeface="Century Schoolbook"/>
            </a:endParaRPr>
          </a:p>
        </p:txBody>
      </p:sp>
      <p:sp>
        <p:nvSpPr>
          <p:cNvPr id="594" name=""/>
          <p:cNvSpPr txBox="1"/>
          <p:nvPr/>
        </p:nvSpPr>
        <p:spPr>
          <a:xfrm>
            <a:off x="457200" y="2361960"/>
            <a:ext cx="3657600" cy="388620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e sure to keep a list of classes you want to take in the future. Some classes that you want to take, like Chemistry, require Physics or Biology beforehand. Even if you did.Do not take classes that you might not enjoy for the sake of being with friends or a significant other. Unfortunately, relationships</a:t>
            </a:r>
            <a:r>
              <a:rPr b="1" lang="en-US" sz="1100" spc="-1" strike="noStrike">
                <a:solidFill>
                  <a:srgbClr val="000000"/>
                </a:solidFill>
                <a:latin typeface="Century Schoolbook"/>
              </a:rPr>
              <a:t>  do</a:t>
            </a:r>
            <a:r>
              <a:rPr b="0" lang="en-US" sz="1100" spc="-1" strike="noStrike">
                <a:solidFill>
                  <a:srgbClr val="000000"/>
                </a:solidFill>
                <a:latin typeface="Century Schoolbook"/>
              </a:rPr>
              <a:t> change, and the high school may be UN</a:t>
            </a:r>
            <a:r>
              <a:rPr b="1" lang="en-US" sz="1100" spc="-1" strike="noStrike">
                <a:solidFill>
                  <a:srgbClr val="000000"/>
                </a:solidFill>
                <a:latin typeface="Century Schoolbook"/>
              </a:rPr>
              <a:t> Know your requirements </a:t>
            </a:r>
            <a:r>
              <a:rPr b="0" lang="en-US" sz="1100" spc="-1" strike="noStrike">
                <a:solidFill>
                  <a:srgbClr val="000000"/>
                </a:solidFill>
                <a:latin typeface="Century Schoolbook"/>
              </a:rPr>
              <a:t>High schools have a list of required credits that you must take in order to graduate. Most </a:t>
            </a:r>
            <a:r>
              <a:rPr b="1" lang="en-US" sz="1100" spc="-1" strike="noStrike">
                <a:solidFill>
                  <a:srgbClr val="000000"/>
                </a:solidFill>
                <a:latin typeface="Century Schoolbook"/>
              </a:rPr>
              <a:t>high</a:t>
            </a:r>
            <a:r>
              <a:rPr b="0" lang="en-US" sz="1100" spc="-1" strike="noStrike">
                <a:solidFill>
                  <a:srgbClr val="000000"/>
                </a:solidFill>
                <a:latin typeface="Century Schoolbook"/>
              </a:rPr>
              <a:t> schools require four years of English and Math, three years each of Social and Science; two years of a foreign language or artistic class (these vary); and various other credits. In high school you most likely are required to take some form of Biology, Physics, Chemistry for science, and American and World History for history, along with some sociology, economics, American government/civics, and psychology, along with a health credits and PE credits. You may be required to take some type of Algebra, most likely Algebra I and II, Geometry, Statistics, and some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
        <p:nvSpPr>
          <p:cNvPr id="595" name=""/>
          <p:cNvSpPr txBox="1"/>
          <p:nvPr/>
        </p:nvSpPr>
        <p:spPr>
          <a:xfrm>
            <a:off x="4371840" y="2361960"/>
            <a:ext cx="3657600" cy="38862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1" lang="en-US" sz="2000" spc="-1" strike="noStrike">
                <a:solidFill>
                  <a:srgbClr val="000000"/>
                </a:solidFill>
                <a:latin typeface="Century Schoolbook"/>
              </a:rPr>
              <a:t>Do </a:t>
            </a:r>
            <a:r>
              <a:rPr b="0" lang="en-US" sz="2000" spc="-1" strike="noStrike">
                <a:solidFill>
                  <a:srgbClr val="000000"/>
                </a:solidFill>
                <a:latin typeface="Century Schoolbook"/>
              </a:rPr>
              <a:t>not take classes that you might not enjoy for the sake of being with friends or a significant other. Unfortunately, relationships do change, and the high school may be unwilling to change your schedule if you have a falling out.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rigonometry. Pre-calc a and Calc are generally for honor students</a:t>
            </a:r>
            <a:endParaRPr b="0" lang="en-US" sz="2000" spc="-1" strike="noStrike">
              <a:solidFill>
                <a:srgbClr val="000000"/>
              </a:solidFill>
              <a:latin typeface="Century Schoolbook"/>
            </a:endParaRPr>
          </a:p>
        </p:txBody>
      </p:sp>
      <p:sp>
        <p:nvSpPr>
          <p:cNvPr id="596" name=""/>
          <p:cNvSpPr txBox="1"/>
          <p:nvPr/>
        </p:nvSpPr>
        <p:spPr>
          <a:xfrm>
            <a:off x="489240" y="1602000"/>
            <a:ext cx="3593520" cy="594720"/>
          </a:xfrm>
          <a:prstGeom prst="rect">
            <a:avLst/>
          </a:prstGeom>
          <a:solidFill>
            <a:srgbClr val="fe8637"/>
          </a:solidFill>
          <a:ln w="0">
            <a:noFill/>
          </a:ln>
        </p:spPr>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Do’s</a:t>
            </a:r>
            <a:endParaRPr b="0" lang="en-US" sz="2000" spc="-1" strike="noStrike">
              <a:solidFill>
                <a:srgbClr val="000000"/>
              </a:solidFill>
              <a:latin typeface="Century Schoolbook"/>
            </a:endParaRPr>
          </a:p>
        </p:txBody>
      </p:sp>
      <p:sp>
        <p:nvSpPr>
          <p:cNvPr id="597" name=""/>
          <p:cNvSpPr txBox="1"/>
          <p:nvPr/>
        </p:nvSpPr>
        <p:spPr>
          <a:xfrm>
            <a:off x="4375440" y="1602000"/>
            <a:ext cx="3593520" cy="594720"/>
          </a:xfrm>
          <a:prstGeom prst="rect">
            <a:avLst/>
          </a:prstGeom>
          <a:solidFill>
            <a:srgbClr val="fe8637"/>
          </a:solidFill>
          <a:ln w="0">
            <a:noFill/>
          </a:ln>
        </p:spPr>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Don't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ORE INFO ABOUT CHOOSING SUBJECTS</a:t>
            </a:r>
            <a:endParaRPr b="0" lang="en-US" sz="3000" spc="-1" strike="noStrike">
              <a:solidFill>
                <a:srgbClr val="575f6d"/>
              </a:solidFill>
              <a:latin typeface="Century Schoolbook"/>
            </a:endParaRPr>
          </a:p>
        </p:txBody>
      </p:sp>
      <p:sp>
        <p:nvSpPr>
          <p:cNvPr id="59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Interested in and talk to them before you register. Attend an </a:t>
            </a:r>
            <a:r>
              <a:rPr b="1" lang="en-US" sz="1700" spc="-1" strike="noStrike">
                <a:solidFill>
                  <a:srgbClr val="000000"/>
                </a:solidFill>
                <a:latin typeface="Century Schoolbook"/>
              </a:rPr>
              <a:t>FET</a:t>
            </a:r>
            <a:r>
              <a:rPr b="0" lang="en-US" sz="1700" spc="-1" strike="noStrike">
                <a:solidFill>
                  <a:srgbClr val="000000"/>
                </a:solidFill>
                <a:latin typeface="Century Schoolbook"/>
              </a:rPr>
              <a:t> college</a:t>
            </a:r>
            <a:br>
              <a:rPr sz="1700"/>
            </a:br>
            <a:r>
              <a:rPr b="0" lang="en-US" sz="1700" spc="-1" strike="noStrike">
                <a:solidFill>
                  <a:srgbClr val="000000"/>
                </a:solidFill>
                <a:latin typeface="Century Schoolbook"/>
              </a:rPr>
              <a:t>- Study at an adult education centre</a:t>
            </a:r>
            <a:br>
              <a:rPr sz="1700"/>
            </a:br>
            <a:r>
              <a:rPr b="0" lang="en-US" sz="1700" spc="-1" strike="noStrike">
                <a:solidFill>
                  <a:srgbClr val="000000"/>
                </a:solidFill>
                <a:latin typeface="Century Schoolbook"/>
              </a:rPr>
              <a:t>- Go to university</a:t>
            </a:r>
            <a:br>
              <a:rPr sz="1700"/>
            </a:br>
            <a:r>
              <a:rPr b="0" lang="en-US" sz="1700" spc="-1" strike="noStrike">
                <a:solidFill>
                  <a:srgbClr val="000000"/>
                </a:solidFill>
                <a:latin typeface="Century Schoolbook"/>
              </a:rPr>
              <a:t>- Get a qualification through a </a:t>
            </a:r>
            <a:r>
              <a:rPr b="0" lang="en-US" sz="1700" spc="-1" strike="noStrike" u="sng">
                <a:solidFill>
                  <a:srgbClr val="d2611c"/>
                </a:solidFill>
                <a:uFillTx/>
                <a:latin typeface="Century Schoolbook"/>
                <a:hlinkClick r:id="rId1"/>
              </a:rPr>
              <a:t>learner ship</a:t>
            </a:r>
            <a:br>
              <a:rPr sz="1700"/>
            </a:br>
            <a:r>
              <a:rPr b="0" lang="en-US" sz="1700" spc="-1" strike="noStrike">
                <a:solidFill>
                  <a:srgbClr val="000000"/>
                </a:solidFill>
                <a:latin typeface="Century Schoolbook"/>
              </a:rPr>
              <a:t>- Go on an internship</a:t>
            </a:r>
            <a:br>
              <a:rPr sz="1700"/>
            </a:br>
            <a:r>
              <a:rPr b="0" lang="en-US" sz="1700" spc="-1" strike="noStrike">
                <a:solidFill>
                  <a:srgbClr val="000000"/>
                </a:solidFill>
                <a:latin typeface="Century Schoolbook"/>
              </a:rPr>
              <a:t>- Start a business</a:t>
            </a:r>
            <a:br>
              <a:rPr sz="1700"/>
            </a:br>
            <a:r>
              <a:rPr b="0" lang="en-US" sz="1700" spc="-1" strike="noStrike">
                <a:solidFill>
                  <a:srgbClr val="000000"/>
                </a:solidFill>
                <a:latin typeface="Century Schoolbook"/>
              </a:rPr>
              <a:t>- Join the army or police service</a:t>
            </a:r>
            <a:br>
              <a:rPr sz="1700"/>
            </a:br>
            <a:r>
              <a:rPr b="0" lang="en-US" sz="1700" spc="-1" strike="noStrike">
                <a:solidFill>
                  <a:srgbClr val="000000"/>
                </a:solidFill>
                <a:latin typeface="Century Schoolbook"/>
              </a:rPr>
              <a:t>- Study to become a teacher</a:t>
            </a:r>
            <a:br>
              <a:rPr sz="1700"/>
            </a:br>
            <a:r>
              <a:rPr b="0" lang="en-US" sz="1700" spc="-1" strike="noStrike">
                <a:solidFill>
                  <a:srgbClr val="000000"/>
                </a:solidFill>
                <a:latin typeface="Century Schoolbook"/>
              </a:rPr>
              <a:t>- Volunteer your time</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Bear in mind that your local </a:t>
            </a:r>
            <a:r>
              <a:rPr b="1" lang="en-US" sz="1700" spc="-1" strike="noStrike">
                <a:solidFill>
                  <a:srgbClr val="000000"/>
                </a:solidFill>
                <a:latin typeface="Century Schoolbook"/>
              </a:rPr>
              <a:t>FET</a:t>
            </a:r>
            <a:r>
              <a:rPr b="0" lang="en-US" sz="1700" spc="-1" strike="noStrike">
                <a:solidFill>
                  <a:srgbClr val="000000"/>
                </a:solidFill>
                <a:latin typeface="Century Schoolbook"/>
              </a:rPr>
              <a:t> College and community colleges offer practical courses such as how to start your own business, bricklaying, carpeting, plumbing and much more. Often courses run for shorter periods of time, such as weeks and months, rather than for three or four years - which means lower tuition rates. You don’t always need a metric certificate to study at an </a:t>
            </a:r>
            <a:r>
              <a:rPr b="1" lang="en-US" sz="1700" spc="-1" strike="noStrike">
                <a:solidFill>
                  <a:srgbClr val="000000"/>
                </a:solidFill>
                <a:latin typeface="Century Schoolbook"/>
              </a:rPr>
              <a:t>FET</a:t>
            </a:r>
            <a:r>
              <a:rPr b="0" lang="en-US" sz="1700" spc="-1" strike="noStrike">
                <a:solidFill>
                  <a:srgbClr val="000000"/>
                </a:solidFill>
                <a:latin typeface="Century Schoolbook"/>
              </a:rPr>
              <a:t> College, as their diplomas are designed with basic mathematical and language literacy in mind. Try to </a:t>
            </a:r>
            <a:r>
              <a:rPr b="1" lang="en-US" sz="1700" spc="-1" strike="noStrike">
                <a:solidFill>
                  <a:srgbClr val="000000"/>
                </a:solidFill>
                <a:latin typeface="Century Schoolbook"/>
              </a:rPr>
              <a:t>find</a:t>
            </a:r>
            <a:r>
              <a:rPr b="0" lang="en-US" sz="1700" spc="-1" strike="noStrike">
                <a:solidFill>
                  <a:srgbClr val="000000"/>
                </a:solidFill>
                <a:latin typeface="Century Schoolbook"/>
              </a:rPr>
              <a:t> someone who has done the course you’re doing.</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 </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DOES HIGH SCHOOL OFFER?</a:t>
            </a:r>
            <a:endParaRPr b="0" lang="en-US" sz="3000" spc="-1" strike="noStrike">
              <a:solidFill>
                <a:srgbClr val="575f6d"/>
              </a:solidFill>
              <a:latin typeface="Century Schoolbook"/>
            </a:endParaRPr>
          </a:p>
        </p:txBody>
      </p:sp>
      <p:sp>
        <p:nvSpPr>
          <p:cNvPr id="60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Schoolbook"/>
              </a:rPr>
              <a:t>High</a:t>
            </a:r>
            <a:r>
              <a:rPr b="0" lang="en-US" sz="1300" spc="-1" strike="noStrike">
                <a:solidFill>
                  <a:srgbClr val="000000"/>
                </a:solidFill>
                <a:latin typeface="Century Schoolbook"/>
              </a:rPr>
              <a:t> </a:t>
            </a:r>
            <a:r>
              <a:rPr b="1" lang="en-US" sz="1300" spc="-1" strike="noStrike">
                <a:solidFill>
                  <a:srgbClr val="000000"/>
                </a:solidFill>
                <a:latin typeface="Century Schoolbook"/>
              </a:rPr>
              <a:t>school</a:t>
            </a:r>
            <a:r>
              <a:rPr b="0" lang="en-US" sz="1300" spc="-1" strike="noStrike">
                <a:solidFill>
                  <a:srgbClr val="000000"/>
                </a:solidFill>
                <a:latin typeface="Century Schoolbook"/>
              </a:rPr>
              <a:t> counselors are there to help you. If you have any questions, ask them - they contain a veritable treasure trove of knowledge and would be happy to share.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If you have older siblings, ask which </a:t>
            </a:r>
            <a:r>
              <a:rPr b="1" lang="en-US" sz="1300" spc="-1" strike="noStrike">
                <a:solidFill>
                  <a:srgbClr val="000000"/>
                </a:solidFill>
                <a:latin typeface="Century Schoolbook"/>
              </a:rPr>
              <a:t>subjects</a:t>
            </a:r>
            <a:r>
              <a:rPr b="0" lang="en-US" sz="1300" spc="-1" strike="noStrike">
                <a:solidFill>
                  <a:srgbClr val="000000"/>
                </a:solidFill>
                <a:latin typeface="Century Schoolbook"/>
              </a:rPr>
              <a:t> that they particularily enjoyed or which they disliked; but keep in mind that you and your siblings are different. A class that they hated; you may love, and vice versa.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Sign up for higher level classes at the beginning of the </a:t>
            </a:r>
            <a:r>
              <a:rPr b="1" lang="en-US" sz="1300" spc="-1" strike="noStrike">
                <a:solidFill>
                  <a:srgbClr val="000000"/>
                </a:solidFill>
                <a:latin typeface="Century Schoolbook"/>
              </a:rPr>
              <a:t>school</a:t>
            </a:r>
            <a:r>
              <a:rPr b="0" lang="en-US" sz="1300" spc="-1" strike="noStrike">
                <a:solidFill>
                  <a:srgbClr val="000000"/>
                </a:solidFill>
                <a:latin typeface="Century Schoolbook"/>
              </a:rPr>
              <a:t> year. It's often easier to move down if it's too hard than to move up if it is too easy. For instance if you moved up to a higher level class, where course material can be covered more quickly, you might have a lot of catching up to </a:t>
            </a:r>
            <a:r>
              <a:rPr b="1" lang="en-US" sz="1300" spc="-1" strike="noStrike">
                <a:solidFill>
                  <a:srgbClr val="000000"/>
                </a:solidFill>
                <a:latin typeface="Century Schoolbook"/>
              </a:rPr>
              <a:t>do</a:t>
            </a:r>
            <a:r>
              <a:rPr b="0" lang="en-US"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Consider your interests at home. If you like to make professional quality films with your video camera you got for Christmas, you should take a filmmaking or drama course. If you are interested in WW II battles, you should take a modern history course, and so on. If you like writing music, you should take a music production or poetry class.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Think about your future dreams. When selecting classes to take, consider which classes might best help you in this. Talking to someone in a career that is interesting to you and discovering the prerequisites is helpful.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Some classes are bare necessities for the "real world". Managing Your Money, Living On Your Own, and Basic Engines courses are essential.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Be sure to keep a list of classes you want to take in the future. Some classes that you want to take, like Chemistry, require Physics or Biology beforehand. Even if you didn't plan on taking Bio, if you really want Chemistry, you might have to.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575f6d"/>
                </a:solidFill>
                <a:uFillTx/>
                <a:latin typeface="Century Schoolbook"/>
              </a:rPr>
              <a:t>THE GRAPH SHOWING DIFFERENT PERCENTAGES IN 4 SUBJECTS</a:t>
            </a:r>
            <a:endParaRPr b="0" lang="en-US" sz="3000" spc="-1" strike="noStrike">
              <a:solidFill>
                <a:srgbClr val="575f6d"/>
              </a:solidFill>
              <a:latin typeface="Century Schoolbook"/>
            </a:endParaRPr>
          </a:p>
        </p:txBody>
      </p:sp>
      <p:pic>
        <p:nvPicPr>
          <p:cNvPr id="603" name="Content Placeholder 3" descr=""/>
          <p:cNvPicPr/>
          <p:nvPr/>
        </p:nvPicPr>
        <p:blipFill>
          <a:blip r:embed="rId1"/>
          <a:stretch/>
        </p:blipFill>
        <p:spPr>
          <a:xfrm>
            <a:off x="450720" y="1596960"/>
            <a:ext cx="7480440" cy="48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680"/>
            <a:ext cx="7238880" cy="41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GRADE 11 PASS PERCENTAGES</a:t>
            </a:r>
            <a:endParaRPr b="0" lang="en-US" sz="2700" spc="-1" strike="noStrike">
              <a:solidFill>
                <a:srgbClr val="575f6d"/>
              </a:solidFill>
              <a:latin typeface="Century Schoolbook"/>
            </a:endParaRPr>
          </a:p>
        </p:txBody>
      </p:sp>
      <p:graphicFrame>
        <p:nvGraphicFramePr>
          <p:cNvPr id="605" name=""/>
          <p:cNvGraphicFramePr/>
          <p:nvPr/>
        </p:nvGraphicFramePr>
        <p:xfrm>
          <a:off x="304920" y="914400"/>
          <a:ext cx="8534160" cy="5715000"/>
        </p:xfrm>
        <a:graphic>
          <a:graphicData uri="http://schemas.openxmlformats.org/drawingml/2006/table">
            <a:tbl>
              <a:tblPr/>
              <a:tblGrid>
                <a:gridCol w="1326960"/>
                <a:gridCol w="1325520"/>
                <a:gridCol w="1082880"/>
                <a:gridCol w="884160"/>
                <a:gridCol w="882720"/>
                <a:gridCol w="1082520"/>
                <a:gridCol w="649440"/>
                <a:gridCol w="650880"/>
                <a:gridCol w="649080"/>
              </a:tblGrid>
              <a:tr h="519120">
                <a:tc gridSpan="7" row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0560">
                <a:tc vMerge="1" grid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0382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Name &amp; surname</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ID NUMBER</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Student Number</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Life Sciences </a:t>
                      </a:r>
                      <a:endParaRPr b="0" lang="en-US" sz="800" spc="-1" strike="noStrike">
                        <a:solidFill>
                          <a:srgbClr val="000000"/>
                        </a:solidFill>
                        <a:latin typeface="Century Schoolbook"/>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Mathematics</a:t>
                      </a:r>
                      <a:endParaRPr b="0" lang="en-US" sz="800" spc="-1" strike="noStrike">
                        <a:solidFill>
                          <a:srgbClr val="000000"/>
                        </a:solidFill>
                        <a:latin typeface="Century Schoolbook"/>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hysical Science</a:t>
                      </a:r>
                      <a:endParaRPr b="0" lang="en-US" sz="800" spc="-1" strike="noStrike">
                        <a:solidFill>
                          <a:srgbClr val="000000"/>
                        </a:solidFill>
                        <a:latin typeface="Century Schoolbook"/>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CAT</a:t>
                      </a:r>
                      <a:endParaRPr b="0" lang="en-US" sz="800" spc="-1" strike="noStrike">
                        <a:solidFill>
                          <a:srgbClr val="000000"/>
                        </a:solidFill>
                        <a:latin typeface="Century Schoolbook"/>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Results %</a:t>
                      </a:r>
                      <a:endParaRPr b="0" lang="en-US" sz="800" spc="-1" strike="noStrike">
                        <a:solidFill>
                          <a:srgbClr val="000000"/>
                        </a:solidFill>
                        <a:latin typeface="Century Schoolbook"/>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ass/Fail</a:t>
                      </a:r>
                      <a:endParaRPr b="0" lang="en-US" sz="800" spc="-1" strike="noStrike">
                        <a:solidFill>
                          <a:srgbClr val="000000"/>
                        </a:solidFill>
                        <a:latin typeface="Century Schoolbook"/>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Siqubedu ziyanda</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411130492082</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2082</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                  </a:t>
                      </a:r>
                      <a:r>
                        <a:rPr b="0" lang="en-US" sz="800" spc="-1" strike="noStrike">
                          <a:solidFill>
                            <a:srgbClr val="000000"/>
                          </a:solidFill>
                          <a:latin typeface="Century Schoolbook"/>
                        </a:rPr>
                        <a:t>4.30 </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24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2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6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47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ass</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0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Tuko Aviwe</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311131745087</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45087</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                  </a:t>
                      </a:r>
                      <a:r>
                        <a:rPr b="0" lang="en-US" sz="800" spc="-1" strike="noStrike">
                          <a:solidFill>
                            <a:srgbClr val="000000"/>
                          </a:solidFill>
                          <a:latin typeface="Century Schoolbook"/>
                        </a:rPr>
                        <a:t>2.50 </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44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2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5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39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ass</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Tom Sakhumzi</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754674567082</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67082</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                  </a:t>
                      </a:r>
                      <a:r>
                        <a:rPr b="0" lang="en-US" sz="800" spc="-1" strike="noStrike">
                          <a:solidFill>
                            <a:srgbClr val="000000"/>
                          </a:solidFill>
                          <a:latin typeface="Century Schoolbook"/>
                        </a:rPr>
                        <a:t>3.50 </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8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3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42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25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ass</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Zintle Mazakaza</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107120876087</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76087</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                  </a:t>
                      </a:r>
                      <a:r>
                        <a:rPr b="0" lang="en-US" sz="800" spc="-1" strike="noStrike">
                          <a:solidFill>
                            <a:srgbClr val="000000"/>
                          </a:solidFill>
                          <a:latin typeface="Century Schoolbook"/>
                        </a:rPr>
                        <a:t>4.50 </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28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5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45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68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ass</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Gwazube Thandile</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512146699087</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9087</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                  </a:t>
                      </a:r>
                      <a:r>
                        <a:rPr b="0" lang="en-US" sz="800" spc="-1" strike="noStrike">
                          <a:solidFill>
                            <a:srgbClr val="000000"/>
                          </a:solidFill>
                          <a:latin typeface="Century Schoolbook"/>
                        </a:rPr>
                        <a:t>3.00 </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3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22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27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09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fail</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Tshaba Siphokazi</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807048964084</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64084</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                  </a:t>
                      </a:r>
                      <a:r>
                        <a:rPr b="0" lang="en-US" sz="800" spc="-1" strike="noStrike">
                          <a:solidFill>
                            <a:srgbClr val="000000"/>
                          </a:solidFill>
                          <a:latin typeface="Century Schoolbook"/>
                        </a:rPr>
                        <a:t>2.00 </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5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53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3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53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ass</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000" spc="-1" strike="noStrike" u="sng">
                <a:solidFill>
                  <a:srgbClr val="575f6d"/>
                </a:solidFill>
                <a:uFillTx/>
                <a:latin typeface="Century Schoolbook"/>
              </a:rPr>
              <a:t>CONCLUSION</a:t>
            </a:r>
            <a:br>
              <a:rPr sz="3000"/>
            </a:br>
            <a:endParaRPr b="0" lang="en-US" sz="3000" spc="-1" strike="noStrike">
              <a:solidFill>
                <a:srgbClr val="575f6d"/>
              </a:solidFill>
              <a:latin typeface="Century Schoolbook"/>
            </a:endParaRPr>
          </a:p>
        </p:txBody>
      </p:sp>
      <p:sp>
        <p:nvSpPr>
          <p:cNvPr id="60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 my task/search project I deduced that many students who are on academics lack knowledge about their interest in subject choices which result them to fail some of the subjects they chose e.g. Mathematics, Life Sciences ,Accounting, Geography etc</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Solutions to the problem</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ery school in all provinces has a school guidance councilors to help the grade7,grd9,and grade 12 students find where their interest lies on, Perhaps some other advising programs like internet access should be introduced to the student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8T09:36:09Z</dcterms:created>
  <dc:creator>tech</dc:creator>
  <dc:description/>
  <dc:language>en-US</dc:language>
  <cp:lastModifiedBy>User</cp:lastModifiedBy>
  <dcterms:modified xsi:type="dcterms:W3CDTF">2011-10-29T15:43:38Z</dcterms:modified>
  <cp:revision>6</cp:revision>
  <dc:subject/>
  <dc:title>Census At Schools</dc:title>
</cp:coreProperties>
</file>