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F9A9-50B2-4B3C-B790-2381BAC0A6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SUS</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C6C1-A52B-4C46-BD19-39A1BB63638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FE235-490F-46F0-BE5D-140F3423D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DB525-A96D-4D8A-AE50-204BFF574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2575D8-B2D9-4F09-8EFB-FDEB136790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5988D-5356-495C-A213-DEE74A158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B73C1-8C2D-415E-84AD-2E8D5CAAA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3F0DE-36F8-4F1A-9565-CDF3DA961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FBEF6-5F3E-481B-A0B8-63839F7AF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4F11B7-95AE-4499-8DF5-0F2E93403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9DBE7-12DA-4C8A-9EE4-975E757BD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539090-0103-4D9A-89B0-DCC2C7DB73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BF4EFF-2BDE-4C4D-894C-797A7D818A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F2E11-98A7-4677-BF9D-F2ABD3665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2298D-38A7-4B94-A401-BDD86A4C4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96E28-89BC-4AFA-95C0-E19439A70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A7647-6A79-4FDA-972E-1EE1C5D1E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C8AC0-BB18-4CB5-B544-E3B6B6131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E51C5-E45F-4DFD-B872-97C746C68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7487F-3FCE-4FF3-8D70-EBC69BFDA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319F4-806A-4C32-AF12-60373053F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8B5B3-FB49-48E3-AF90-5B6F8127A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564E0-CF03-499C-9D74-EDA943F5D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266A5-C1E6-4A51-AEC4-92E4A4A9B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8C2A9-99A9-4A11-B1AA-88FA8924D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26607-1657-4194-BFED-52BD4F8F3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5B125-931E-40DE-B9C3-6317A9FB3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DE79F-F6B0-4920-B8EB-8F0DF5793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F2BF05-44B3-46F0-A007-8981A47DA5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E8730-8FF7-4461-9231-053AAFC20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2D3B8-5B2E-48A9-8498-685F96FF0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277C3-129D-4876-A871-BF6038885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5C681-5CEA-45D0-815F-EC3D16EB3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DAE41-93C5-4FF7-BBC1-B0EB7C04D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58C64-CE55-456F-80F9-95B48C41D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8150A-B8F5-4D6B-BEB8-BD0FBD8B2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E61D4-1599-4B98-90C1-497DAA4F8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09114-28EE-4D4E-A059-BA0B2C329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241BF-EC6D-41B3-91AD-3ED3D8076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5440DC-68AD-4035-8AEA-2B884F959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68BB7F-C8A5-4451-95C7-306AB1995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C8BB6-3F92-4F16-B52D-2E2882AA79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CBB64-E858-4B70-AC51-347BA2123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AE5FE-7836-4967-B764-EEDCE8E9E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75F9F-A74A-4FE4-98F8-B24336858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296A9-7A06-4192-90D2-2C04CB2CD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4D29F-B3BE-4083-9FF3-C2E8AE06F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C4CE4-43AE-4CFE-8B3A-4B08F153C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6133E-38F3-400E-9B25-93CC6236C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B552C-1FD3-403F-A9E8-C45313A6B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D4131-9C9C-4435-BC52-F01DBD564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49778-06D2-4289-BC5D-3E0086A344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854717-6C5A-4E50-9B77-CC8CE1F7EC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9D5D19-BA3B-47B8-A2CB-E435A5839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C07A02-2D1D-409F-894F-9FC9C7EC0B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F1018-4CF0-456A-8C82-ED245A109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6DA00-ABE4-4BEE-8619-8A9B0234E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8F206-B9BD-4B88-921B-8AB781CC9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EE296-8843-4532-BDA9-0BD14173CA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329E4-0483-4DDF-9A97-770829873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88B674-8A8E-4133-9DE7-6D0496802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FE170-E8E8-411C-B2D3-7C45EA234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CA5FF-2CD5-4065-9417-3F9A5B954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0102D-1D98-492D-8CFD-4ACBBAB17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6C24D-A755-404F-A560-5548212E5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61C82D-F8C9-4792-A9C0-B0A6D911B6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4BDE-E019-41E8-8BA9-190FE8D60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76A83-E4BF-455C-B628-322F30A6F8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D158F8-DA43-4D26-A766-1B6612D343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B3B115-977F-4DCC-9A30-53EC6C03C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D23EF1-542E-4BF7-B2C2-779CB6496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2C0C2-5558-4B70-8968-BFA4EE12B9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AC4DEB-650B-4A3A-A690-AD90EE338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8D65D3-B742-4B6A-AAED-17C9D8E72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626EF-D52F-4B91-BDF4-8FF8C7863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8AA0D-9BE9-47A6-8988-387392924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3DF14-B1DA-421F-9BAF-C12E45D1F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51EB-A4F2-4A24-83CF-45E43EDD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72D8C-6840-4684-AAAE-3FCDC3DBF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F24B6D-5517-4493-BBEC-8BC265FCC2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EECF5-B5EC-4587-B034-12C85DF2D8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79D89D-4790-46BE-A7C2-EC710709D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85FF12-3AF0-4CAD-AB35-91D8C42592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3786E-C1D9-41DC-903F-1CFC59AD73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72F56C-4349-412F-B7A8-F1C96A0D5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D98B7-0268-4EA9-98B1-39F8BDE81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16FD6-92EC-497C-BF3B-4301206BA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69112-387E-4D70-AA3C-A8F3D185C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B4AF-4105-4650-A6F9-518A1EC55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6C0C5-9531-4A36-9C8F-8CCEAFDCD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25A9F-5467-4CD6-9B4B-E30ECB030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328088-3EA3-4434-A1D1-C6E5845CC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752A3-DD20-45AB-8AB9-A02510B27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B9A65D-3A6F-43C1-9D4D-E69F42AED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F97957-C89B-4F99-A5B3-FF944772B9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64BCC6-C19B-495B-B719-D9312692B9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DDA27E-45C4-4F9B-97D3-9B4E233FA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52F88-EC1A-480D-90B8-143B3AD57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2234C-E5B4-444B-869A-E0ADB8FDF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44F9-7C1F-4DF5-914C-69DC4428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4A6CC-204D-46A8-847D-A7AAC5219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D37DC-9C86-457B-94D1-75EC9ADA9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72BFE-4F25-4611-95CE-7CC261E99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85B97-9218-4C4E-8581-A0CFBDB10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52702-170D-495B-990B-A12D36038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D1D684-48D6-4912-8F84-5E96E3D36B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8E243D-86BA-45DB-A0BF-2FD3DAC7B2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A0824F-6E6B-4FB9-BD2C-0EF45CF918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9FCE80-6982-433D-8C39-ECA84E0397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461B02-CE0E-47A9-8D7D-213AE16990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241A-DD5F-47F6-B5A9-E5734DB07AF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3B29-5A41-4AF5-8DA4-2F5EE903B99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C3A7-805D-460B-987B-B70AED031AE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A8E7-15DB-4589-AE37-59D0B3F41418}"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7711-39FE-4803-86F6-1BC1CA70257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CACF-E886-4508-B58C-C8DE22D2211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359B-0B3B-416D-8094-EB853FFB55D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0C58-8D15-44BA-AB0A-EDBDB92E658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6419-9BC4-465E-8FBF-6737E4A7129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google.co.za/imgres?imgurl=http://www.unb.ca/fredericton/studentservices/_resources/img/studentsbook.jpg&amp;imgrefurl=http://www.unb.ca/fredericton/studentservices/academics/index.html&amp;usg=__iSzRm8m07BfjrUjAx2y60BmzNh8=&amp;h=304&amp;w=320&amp;sz=47&amp;hl=en&amp;start=5&amp;zoom=1&amp;itbs=1&amp;tbnid=1EOeCgXxH0tR8M:&amp;tbnh=112&amp;tbnw=118&amp;prev=/search?q=academic+needs&amp;hl=en&amp;sa=X&amp;tbm=isch&amp;prmd=ivns&amp;ei=q4iuTaLvNYWavgOvw6CGDw" TargetMode="External"/><Relationship Id="rId3" Type="http://schemas.openxmlformats.org/officeDocument/2006/relationships/image" Target="../media/image7.jpeg"/><Relationship Id="rId4" Type="http://schemas.openxmlformats.org/officeDocument/2006/relationships/hyperlink" Target="http://www.google.co.za/imgres?imgurl=http://weblogs.uni.edu/libnews/images/rodlibrary.jpg&amp;imgrefurl=http://weblogs.uni.edu/libnews/archives/displays/&amp;usg=__63wUVHmpom2rEyGETnKc0zut9WQ=&amp;h=696&amp;w=800&amp;sz=568&amp;hl=en&amp;start=12&amp;zoom=1&amp;itbs=1&amp;tbnid=XsDpwTYKg80DxM:&amp;tbnh=124&amp;tbnw=143&amp;prev=/search?q=academic+needs&amp;hl=en&amp;sa=X&amp;tbm=isch&amp;prmd=ivns&amp;ei=q4iuTaLvNYWavgOvw6CGDw" TargetMode="External"/><Relationship Id="rId5" Type="http://schemas.openxmlformats.org/officeDocument/2006/relationships/image" Target="../media/image8.jpeg"/><Relationship Id="rId6" Type="http://schemas.openxmlformats.org/officeDocument/2006/relationships/hyperlink" Target="http://www.google.co.za/imgres?imgurl=http://2.bp.blogspot.com/_LYkluY60HUo/TGmmRGziltI/AAAAAAAAAaY/AgK-vXE6s9w/s1600/photo.PNG&amp;imgrefurl=http://mobileesl.blogspot.com/2010/08/apps-on-ipad-for-esl-teachers-and.html&amp;usg=__OK2H3xvrjYkVjhfGq0_jOzn7CQ8=&amp;h=1024&amp;w=768&amp;sz=296&amp;hl=en&amp;start=13&amp;zoom=1&amp;itbs=1&amp;tbnid=5WXkjx7nZjV4OM:&amp;tbnh=150&amp;tbnw=113&amp;prev=/search?q=academic+needs&amp;hl=en&amp;sa=X&amp;tbm=isch&amp;prmd=ivns&amp;ei=q4iuTaLvNYWavgOvw6CGDw" TargetMode="External"/><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WordArt 2"/>
          <p:cNvSpPr txBox="1"/>
          <p:nvPr/>
        </p:nvSpPr>
        <p:spPr>
          <a:xfrm>
            <a:off x="1155600" y="914400"/>
            <a:ext cx="5295960" cy="974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ENSUS</a:t>
            </a:r>
            <a:endParaRPr b="0" lang="en-US" sz="1800" spc="1" strike="noStrike">
              <a:ln w="9360">
                <a:solidFill>
                  <a:srgbClr val="000000"/>
                </a:solidFill>
                <a:miter/>
              </a:ln>
              <a:solidFill>
                <a:srgbClr val="000000"/>
              </a:solidFill>
              <a:latin typeface="Impact"/>
              <a:ea typeface="Impact"/>
            </a:endParaRPr>
          </a:p>
        </p:txBody>
      </p:sp>
      <p:pic>
        <p:nvPicPr>
          <p:cNvPr id="407" name="Diagram 4" descr=""/>
          <p:cNvPicPr/>
          <p:nvPr/>
        </p:nvPicPr>
        <p:blipFill>
          <a:blip r:embed="rId1"/>
          <a:stretch/>
        </p:blipFill>
        <p:spPr>
          <a:xfrm>
            <a:off x="1596960" y="2193840"/>
            <a:ext cx="6108840" cy="409752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1" name=""/>
          <p:cNvGraphicFramePr/>
          <p:nvPr/>
        </p:nvGraphicFramePr>
        <p:xfrm>
          <a:off x="380880" y="152280"/>
          <a:ext cx="8153640" cy="5705640"/>
        </p:xfrm>
        <a:graphic>
          <a:graphicData uri="http://schemas.openxmlformats.org/drawingml/2006/table">
            <a:tbl>
              <a:tblPr/>
              <a:tblGrid>
                <a:gridCol w="2286000"/>
                <a:gridCol w="85680"/>
                <a:gridCol w="2868840"/>
                <a:gridCol w="2913120"/>
              </a:tblGrid>
              <a:tr h="2342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ramural Activities</a:t>
                      </a:r>
                      <a:endParaRPr b="0" lang="en-US" sz="4400" spc="-1" strike="noStrike">
                        <a:solidFill>
                          <a:srgbClr val="000000"/>
                        </a:solidFill>
                        <a:latin typeface="Franklin Gothic Book"/>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r>
              <a:tr h="355680">
                <a:tc gridSpan="3">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ORTING ACTIVITIESS</a:t>
                      </a:r>
                      <a:endParaRPr b="0" lang="en-US" sz="1600" spc="-1" strike="noStrike">
                        <a:solidFill>
                          <a:srgbClr val="000000"/>
                        </a:solidFill>
                        <a:latin typeface="Franklin Gothic Book"/>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r>
              <a:tr h="2286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r>
              <a:tr h="5252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CKET</a:t>
                      </a: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r>
              <a:tr h="3319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DE</a:t>
                      </a:r>
                      <a:endParaRPr b="0" lang="en-US" sz="1800" spc="-1" strike="noStrike">
                        <a:solidFill>
                          <a:srgbClr val="000000"/>
                        </a:solidFill>
                        <a:latin typeface="Franklin Gothic Book"/>
                      </a:endParaRPr>
                    </a:p>
                  </a:txBody>
                  <a:tcPr anchor="b">
                    <a:lnL w="9360">
                      <a:solidFill>
                        <a:srgbClr val="000000"/>
                      </a:solidFill>
                    </a:lnL>
                    <a:lnR>
                      <a:noFill/>
                    </a:lnR>
                    <a:lnT w="93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 OF BOYS</a:t>
                      </a: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 OF GIRLS</a:t>
                      </a:r>
                      <a:endParaRPr b="0" lang="en-US" sz="1800" spc="-1" strike="noStrike">
                        <a:solidFill>
                          <a:srgbClr val="000000"/>
                        </a:solidFill>
                        <a:latin typeface="Franklin Gothic Book"/>
                      </a:endParaRPr>
                    </a:p>
                  </a:txBody>
                  <a:tcPr anchor="b">
                    <a:lnL>
                      <a:noFill/>
                    </a:lnL>
                    <a:lnR w="9360">
                      <a:solidFill>
                        <a:srgbClr val="000000"/>
                      </a:solidFill>
                    </a:lnR>
                    <a:lnT w="9360">
                      <a:solidFill>
                        <a:srgbClr val="000000"/>
                      </a:solidFill>
                    </a:lnT>
                    <a:lnB>
                      <a:no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8</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9</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10</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11</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12</a:t>
                      </a:r>
                      <a:endParaRPr b="0" lang="en-US" sz="1800" spc="-1" strike="noStrike">
                        <a:solidFill>
                          <a:srgbClr val="000000"/>
                        </a:solidFill>
                        <a:latin typeface="Franklin Gothic Book"/>
                      </a:endParaRPr>
                    </a:p>
                  </a:txBody>
                  <a:tcPr anchor="b">
                    <a:lnL w="9360">
                      <a:solidFill>
                        <a:srgbClr val="000000"/>
                      </a:solidFill>
                    </a:lnL>
                    <a:lnR>
                      <a:no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Franklin Gothic Book"/>
                      </a:endParaRPr>
                    </a:p>
                  </a:txBody>
                  <a:tcPr anchor="b">
                    <a:lnL>
                      <a:noFill/>
                    </a:lnL>
                    <a:lnR w="9360">
                      <a:solidFill>
                        <a:srgbClr val="000000"/>
                      </a:solidFill>
                    </a:lnR>
                    <a:lnT>
                      <a:noFill/>
                    </a:lnT>
                    <a:lnB w="9360">
                      <a:solidFill>
                        <a:srgbClr val="000000"/>
                      </a:solid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NUMBER OF BOYS</a:t>
                      </a: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NUMBER OF GIRLS</a:t>
                      </a: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r>
              <a:tr h="274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7</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1</a:t>
                      </a:r>
                      <a:endParaRPr b="0" lang="en-US" sz="1800" spc="-1" strike="noStrike">
                        <a:solidFill>
                          <a:srgbClr val="000000"/>
                        </a:solidFill>
                        <a:latin typeface="Franklin Gothic Book"/>
                      </a:endParaRPr>
                    </a:p>
                  </a:txBody>
                  <a:tcPr anchor="b">
                    <a:lnL>
                      <a:noFill/>
                    </a:lnL>
                    <a:lnR>
                      <a:noFill/>
                    </a:lnR>
                    <a:lnT>
                      <a:noFill/>
                    </a:lnT>
                    <a:lnB>
                      <a:noFill/>
                    </a:lnB>
                    <a:no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hart 1" descr=""/>
          <p:cNvPicPr/>
          <p:nvPr/>
        </p:nvPicPr>
        <p:blipFill>
          <a:blip r:embed="rId1"/>
          <a:stretch/>
        </p:blipFill>
        <p:spPr>
          <a:xfrm>
            <a:off x="225360" y="146160"/>
            <a:ext cx="8772480" cy="602928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3" name=""/>
          <p:cNvGraphicFramePr/>
          <p:nvPr/>
        </p:nvGraphicFramePr>
        <p:xfrm>
          <a:off x="380880" y="2133720"/>
          <a:ext cx="8458200" cy="4572000"/>
        </p:xfrm>
        <a:graphic>
          <a:graphicData uri="http://schemas.openxmlformats.org/drawingml/2006/table">
            <a:tbl>
              <a:tblPr/>
              <a:tblGrid>
                <a:gridCol w="2347920"/>
                <a:gridCol w="3027600"/>
                <a:gridCol w="3082680"/>
              </a:tblGrid>
              <a:tr h="9698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GGBY</a:t>
                      </a: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r>
              <a:tr h="609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DE</a:t>
                      </a:r>
                      <a:endParaRPr b="0" lang="en-US" sz="1800" spc="-1" strike="noStrike">
                        <a:solidFill>
                          <a:srgbClr val="000000"/>
                        </a:solidFill>
                        <a:latin typeface="Franklin Gothic Book"/>
                      </a:endParaRPr>
                    </a:p>
                  </a:txBody>
                  <a:tcPr anchor="b">
                    <a:lnL w="9360">
                      <a:solidFill>
                        <a:srgbClr val="000000"/>
                      </a:solidFill>
                    </a:lnL>
                    <a:lnR>
                      <a:noFill/>
                    </a:lnR>
                    <a:lnT w="93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 OF BOYS</a:t>
                      </a: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 OF GIRLS</a:t>
                      </a:r>
                      <a:endParaRPr b="0" lang="en-US" sz="1800" spc="-1" strike="noStrike">
                        <a:solidFill>
                          <a:srgbClr val="000000"/>
                        </a:solidFill>
                        <a:latin typeface="Franklin Gothic Book"/>
                      </a:endParaRPr>
                    </a:p>
                  </a:txBody>
                  <a:tcPr anchor="b">
                    <a:lnL>
                      <a:noFill/>
                    </a:lnL>
                    <a:lnR w="9360">
                      <a:solidFill>
                        <a:srgbClr val="000000"/>
                      </a:solidFill>
                    </a:lnR>
                    <a:lnT w="9360">
                      <a:solidFill>
                        <a:srgbClr val="000000"/>
                      </a:solidFill>
                    </a:lnT>
                    <a:lnB>
                      <a:noFill/>
                    </a:lnB>
                    <a:noFill/>
                  </a:tcPr>
                </a:tc>
              </a:tr>
              <a:tr h="422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8</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420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9</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422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10</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420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11</a:t>
                      </a:r>
                      <a:endParaRPr b="0" lang="en-US" sz="1800" spc="-1" strike="noStrike">
                        <a:solidFill>
                          <a:srgbClr val="000000"/>
                        </a:solidFill>
                        <a:latin typeface="Franklin Gothic Book"/>
                      </a:endParaRPr>
                    </a:p>
                  </a:txBody>
                  <a:tcPr anchor="b">
                    <a:lnL w="9360">
                      <a:solidFill>
                        <a:srgbClr val="000000"/>
                      </a:solid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Franklin Gothic Book"/>
                      </a:endParaRPr>
                    </a:p>
                  </a:txBody>
                  <a:tcPr anchor="b">
                    <a:lnL>
                      <a:noFill/>
                    </a:lnL>
                    <a:lnR w="9360">
                      <a:solidFill>
                        <a:srgbClr val="000000"/>
                      </a:solidFill>
                    </a:lnR>
                    <a:lnT>
                      <a:noFill/>
                    </a:lnT>
                    <a:lnB>
                      <a:noFill/>
                    </a:lnB>
                    <a:noFill/>
                  </a:tcPr>
                </a:tc>
              </a:tr>
              <a:tr h="44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12</a:t>
                      </a:r>
                      <a:endParaRPr b="0" lang="en-US" sz="1800" spc="-1" strike="noStrike">
                        <a:solidFill>
                          <a:srgbClr val="000000"/>
                        </a:solidFill>
                        <a:latin typeface="Franklin Gothic Book"/>
                      </a:endParaRPr>
                    </a:p>
                  </a:txBody>
                  <a:tcPr anchor="b">
                    <a:lnL w="9360">
                      <a:solidFill>
                        <a:srgbClr val="000000"/>
                      </a:solidFill>
                    </a:lnL>
                    <a:lnR>
                      <a:noFill/>
                    </a:lnR>
                    <a:lnT>
                      <a:noFill/>
                    </a:lnT>
                    <a:lnB w="93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Franklin Gothic Book"/>
                      </a:endParaRPr>
                    </a:p>
                  </a:txBody>
                  <a:tcPr anchor="b">
                    <a:lnL>
                      <a:noFill/>
                    </a:lnL>
                    <a:lnR>
                      <a:noFill/>
                    </a:lnR>
                    <a:lnT>
                      <a:noFill/>
                    </a:lnT>
                    <a:lnB w="93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Franklin Gothic Book"/>
                      </a:endParaRPr>
                    </a:p>
                  </a:txBody>
                  <a:tcPr anchor="b">
                    <a:lnL>
                      <a:noFill/>
                    </a:lnL>
                    <a:lnR w="9360">
                      <a:solidFill>
                        <a:srgbClr val="000000"/>
                      </a:solidFill>
                    </a:lnR>
                    <a:lnT>
                      <a:noFill/>
                    </a:lnT>
                    <a:lnB w="9360">
                      <a:solidFill>
                        <a:srgbClr val="000000"/>
                      </a:solidFill>
                    </a:lnB>
                    <a:noFill/>
                  </a:tcPr>
                </a:tc>
              </a:tr>
              <a:tr h="44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NUMBER OF BOYS</a:t>
                      </a: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NUMBER OF GIRLS</a:t>
                      </a:r>
                      <a:endParaRPr b="0" lang="en-US" sz="1800" spc="-1" strike="noStrike">
                        <a:solidFill>
                          <a:srgbClr val="000000"/>
                        </a:solidFill>
                        <a:latin typeface="Franklin Gothic Book"/>
                      </a:endParaRPr>
                    </a:p>
                  </a:txBody>
                  <a:tcPr anchor="b">
                    <a:lnL>
                      <a:noFill/>
                    </a:lnL>
                    <a:lnR>
                      <a:noFill/>
                    </a:lnR>
                    <a:lnT w="9360">
                      <a:solidFill>
                        <a:srgbClr val="000000"/>
                      </a:solidFill>
                    </a:lnT>
                    <a:lnB>
                      <a:noFill/>
                    </a:lnB>
                    <a:noFill/>
                  </a:tcPr>
                </a:tc>
              </a:tr>
              <a:tr h="420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6</a:t>
                      </a:r>
                      <a:endParaRPr b="0" lang="en-US" sz="1800" spc="-1" strike="noStrike">
                        <a:solidFill>
                          <a:srgbClr val="000000"/>
                        </a:solidFill>
                        <a:latin typeface="Franklin Gothic Book"/>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6</a:t>
                      </a:r>
                      <a:endParaRPr b="0" lang="en-US" sz="1800" spc="-1" strike="noStrike">
                        <a:solidFill>
                          <a:srgbClr val="000000"/>
                        </a:solidFill>
                        <a:latin typeface="Franklin Gothic Book"/>
                      </a:endParaRPr>
                    </a:p>
                  </a:txBody>
                  <a:tcPr anchor="b">
                    <a:lnL>
                      <a:noFill/>
                    </a:lnL>
                    <a:lnR>
                      <a:noFill/>
                    </a:lnR>
                    <a:lnT>
                      <a:noFill/>
                    </a:lnT>
                    <a:lnB>
                      <a:noFill/>
                    </a:lnB>
                    <a:noFill/>
                  </a:tcPr>
                </a:tc>
              </a:tr>
            </a:tbl>
          </a:graphicData>
        </a:graphic>
      </p:graphicFrame>
      <p:sp>
        <p:nvSpPr>
          <p:cNvPr id="434" name="Rectangle 3"/>
          <p:cNvSpPr/>
          <p:nvPr/>
        </p:nvSpPr>
        <p:spPr>
          <a:xfrm>
            <a:off x="2750040" y="533520"/>
            <a:ext cx="5388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ramural Activities</a:t>
            </a:r>
            <a:endParaRPr b="0" lang="en-US" sz="4400" spc="-1" strike="noStrike">
              <a:solidFill>
                <a:srgbClr val="000000"/>
              </a:solidFill>
              <a:latin typeface="Franklin Gothic Book"/>
            </a:endParaRPr>
          </a:p>
        </p:txBody>
      </p:sp>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Chart 1" descr=""/>
          <p:cNvPicPr/>
          <p:nvPr/>
        </p:nvPicPr>
        <p:blipFill>
          <a:blip r:embed="rId1"/>
          <a:stretch/>
        </p:blipFill>
        <p:spPr>
          <a:xfrm>
            <a:off x="146160" y="907920"/>
            <a:ext cx="8619840" cy="5194440"/>
          </a:xfrm>
          <a:prstGeom prst="rect">
            <a:avLst/>
          </a:prstGeom>
          <a:ln w="0">
            <a:noFill/>
          </a:ln>
        </p:spPr>
      </p:pic>
      <p:sp>
        <p:nvSpPr>
          <p:cNvPr id="436" name="Rectangle 2"/>
          <p:cNvSpPr/>
          <p:nvPr/>
        </p:nvSpPr>
        <p:spPr>
          <a:xfrm>
            <a:off x="1371600" y="30492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Franklin Gothic Book"/>
              </a:rPr>
              <a:t>STUDENTS PARTICIPATING IN RUGBY</a:t>
            </a:r>
            <a:endParaRPr b="0" lang="en-US" sz="1800" spc="-1" strike="noStrike">
              <a:solidFill>
                <a:srgbClr val="000000"/>
              </a:solidFill>
              <a:latin typeface="Franklin Gothic Book"/>
            </a:endParaRPr>
          </a:p>
        </p:txBody>
      </p:sp>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WordArt 2"/>
          <p:cNvSpPr txBox="1"/>
          <p:nvPr/>
        </p:nvSpPr>
        <p:spPr>
          <a:xfrm>
            <a:off x="990720" y="0"/>
            <a:ext cx="5295960" cy="974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ENSUS</a:t>
            </a:r>
            <a:endParaRPr b="0" lang="en-US" sz="1800" spc="1" strike="noStrike">
              <a:ln w="9360">
                <a:solidFill>
                  <a:srgbClr val="000000"/>
                </a:solidFill>
                <a:miter/>
              </a:ln>
              <a:solidFill>
                <a:srgbClr val="000000"/>
              </a:solidFill>
              <a:latin typeface="Impact"/>
              <a:ea typeface="Impact"/>
            </a:endParaRPr>
          </a:p>
        </p:txBody>
      </p:sp>
      <p:sp>
        <p:nvSpPr>
          <p:cNvPr id="409" name="Rectangle 3"/>
          <p:cNvSpPr/>
          <p:nvPr/>
        </p:nvSpPr>
        <p:spPr>
          <a:xfrm>
            <a:off x="0" y="200160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Times New Roman"/>
              </a:rPr>
              <a:t>Census, term usually referring to an official count by a national government of its country’s population. A population census determines the size of a country’s population and the characteristics of its people, such as their age, sex, ethnic background, marital status, and income. National governments also conduct other types of censuses, particularly of economic activity. An economic census collects information on the number and characteristics of farms, factories, mines, or businesses.</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Times New Roman"/>
              </a:rPr>
              <a:t>Most countries of the world conduct population censuses at regular intervals. By comparing the results of successive censuses, analysts can see whether the population is growing, stable, or declining, both in the country as a whole and in particular geographic regions. They can also identify general trends in the characteristics of the population. Because censuses aim to count the entire population of a country, they are very expensive and elaborate administrative operations and thus are conducted relatively infrequently. The United States conducts a population census every ten years (a </a:t>
            </a:r>
            <a:r>
              <a:rPr b="0" i="1" lang="en-US" sz="1800" spc="-1" strike="noStrike">
                <a:solidFill>
                  <a:srgbClr val="0070c0"/>
                </a:solidFill>
                <a:latin typeface="Arial"/>
                <a:ea typeface="Times New Roman"/>
              </a:rPr>
              <a:t>decennial</a:t>
            </a:r>
            <a:r>
              <a:rPr b="0" lang="en-US" sz="1800" spc="-1" strike="noStrike">
                <a:solidFill>
                  <a:srgbClr val="0070c0"/>
                </a:solidFill>
                <a:latin typeface="Arial"/>
                <a:ea typeface="Times New Roman"/>
              </a:rPr>
              <a:t> census), and Canada conducts one every five years (a </a:t>
            </a:r>
            <a:r>
              <a:rPr b="0" i="1" lang="en-US" sz="1800" spc="-1" strike="noStrike">
                <a:solidFill>
                  <a:srgbClr val="0070c0"/>
                </a:solidFill>
                <a:latin typeface="Arial"/>
                <a:ea typeface="Times New Roman"/>
              </a:rPr>
              <a:t>quinquennial</a:t>
            </a:r>
            <a:r>
              <a:rPr b="0" lang="en-US" sz="1800" spc="-1" strike="noStrike">
                <a:solidFill>
                  <a:srgbClr val="0070c0"/>
                </a:solidFill>
                <a:latin typeface="Arial"/>
                <a:ea typeface="Times New Roman"/>
              </a:rPr>
              <a:t> census). Economic censuses are generally conducted on a different schedule from the population census.</a:t>
            </a:r>
            <a:endParaRPr b="0" lang="en-US" sz="1800" spc="-1" strike="noStrike">
              <a:solidFill>
                <a:srgbClr val="000000"/>
              </a:solidFill>
              <a:latin typeface="Franklin Gothic Book"/>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WordArt 2"/>
          <p:cNvSpPr txBox="1"/>
          <p:nvPr/>
        </p:nvSpPr>
        <p:spPr>
          <a:xfrm>
            <a:off x="1447920" y="0"/>
            <a:ext cx="5943600" cy="91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 BACK GROUND OF CENSUS@ SCHOOLS</a:t>
            </a:r>
            <a:endParaRPr b="0" lang="en-US" sz="1800" spc="1" strike="noStrike">
              <a:ln w="9360">
                <a:solidFill>
                  <a:srgbClr val="000000"/>
                </a:solidFill>
                <a:miter/>
              </a:ln>
              <a:solidFill>
                <a:srgbClr val="000000"/>
              </a:solidFill>
              <a:latin typeface="Impact"/>
              <a:ea typeface="Impact"/>
            </a:endParaRPr>
          </a:p>
        </p:txBody>
      </p:sp>
      <p:sp>
        <p:nvSpPr>
          <p:cNvPr id="411" name="Rectangle 5"/>
          <p:cNvSpPr/>
          <p:nvPr/>
        </p:nvSpPr>
        <p:spPr>
          <a:xfrm>
            <a:off x="0" y="1142640"/>
            <a:ext cx="9144000" cy="520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Times New Roman"/>
              </a:rPr>
              <a:t>Census @ school is an international education project focusing on data handling in which learners gather basic information about themselves. In South Africa, the Census @ school project was initiated for the first time in 2001 by Statistics South Africa (Stats SA) in collaboration with the Department of Education. A pilot study was conducted in July 2001. The project was officially launched in Cape Town on 18 September 2001, by the Ministers of Finance and Education. The main Census @ school count was conducted between September and October 2001.</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Times New Roman"/>
              </a:rPr>
              <a:t>In 2009, the project was launched in Gauteng on 23 March 2009. The survey for the project was undertaken nationally in all provinces at selected schools from March to May. The results of the project will be presented at the International Statistics Institute Conference to be held in August 2009. The project targets learners from Grades 3 to 12 to participate in data gathering, handling and analysis. The information gathered will be included in both a national and international database. These databases serve as resource for teachers and learners for the teaching and learning of data handling and statistical literacy relating to a variety of subjects and learning areas. The international database provides opportunities for comparison across participating countries.</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Times New Roman"/>
              </a:rPr>
              <a:t>Within Stats SA, Census @ school will play an increasingly important role towards the organisation</a:t>
            </a:r>
            <a:r>
              <a:rPr b="0" lang="en-US" sz="1600" spc="-1" strike="noStrike">
                <a:solidFill>
                  <a:srgbClr val="ff0000"/>
                </a:solidFill>
                <a:latin typeface="Calibri"/>
                <a:ea typeface="Times New Roman"/>
              </a:rPr>
              <a:t>’</a:t>
            </a:r>
            <a:r>
              <a:rPr b="0" lang="en-US" sz="1600" spc="-1" strike="noStrike">
                <a:solidFill>
                  <a:srgbClr val="ff0000"/>
                </a:solidFill>
                <a:latin typeface="Verdana"/>
                <a:ea typeface="Times New Roman"/>
              </a:rPr>
              <a:t>s goal of building statistical capacity and promoting statistical literacy. Stats SA is committed to building not only the statistical capacity and literacy within the organisation, but also that of other government departments, the private sector, within schools and the public as a whole.</a:t>
            </a:r>
            <a:endParaRPr b="0" lang="en-US" sz="1600" spc="-1" strike="noStrike">
              <a:solidFill>
                <a:srgbClr val="000000"/>
              </a:solidFill>
              <a:latin typeface="Franklin Gothic Book"/>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2"/>
          <p:cNvSpPr txBox="1"/>
          <p:nvPr/>
        </p:nvSpPr>
        <p:spPr>
          <a:xfrm>
            <a:off x="1600200" y="0"/>
            <a:ext cx="495792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dvantages OF CENSUS</a:t>
            </a:r>
            <a:endParaRPr b="0" lang="en-US" sz="1800" spc="1" strike="noStrike">
              <a:ln w="9360">
                <a:solidFill>
                  <a:srgbClr val="000000"/>
                </a:solidFill>
                <a:miter/>
              </a:ln>
              <a:solidFill>
                <a:srgbClr val="000000"/>
              </a:solidFill>
              <a:latin typeface="Impact"/>
              <a:ea typeface="Impact"/>
            </a:endParaRPr>
          </a:p>
        </p:txBody>
      </p:sp>
      <p:sp>
        <p:nvSpPr>
          <p:cNvPr id="413" name="Rectangle 5"/>
          <p:cNvSpPr/>
          <p:nvPr/>
        </p:nvSpPr>
        <p:spPr>
          <a:xfrm>
            <a:off x="0" y="120744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Times New Roman"/>
              </a:rPr>
              <a:t>CENSUS offers many advantages over culture-based methods such as plate counts or most probable number (MPN) analyses that have traditionally been used to estimate bacterial populations in environmental samples. Traditional methods like plate counts and MPNs are dependent upon growth of the target microbial population on agar plates or liquid media in the laboratory. Despite advances in growth media, however, typically less than 10% and often less than 1% of the total population can be cultivated (grown) in the lab. Thus, traditional methods severely underestimate the true population. For CENSUS analysis on the other hand, DNA or RNA is extracted directly from the sample completely eliminating the need to grow the target organisms.</a:t>
            </a:r>
            <a:endParaRPr b="0" lang="en-US" sz="2400" spc="-1" strike="noStrike">
              <a:solidFill>
                <a:srgbClr val="000000"/>
              </a:solidFill>
              <a:latin typeface="Franklin Gothic Book"/>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228600" y="-308880"/>
            <a:ext cx="8458200" cy="6004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7030a0"/>
                </a:solidFill>
                <a:uFillTx/>
                <a:latin typeface="Calibri"/>
                <a:ea typeface="Times New Roman"/>
              </a:rPr>
              <a:t>EXAMPLE OF THE ADVANTAGES OF                                                         CENSUS</a:t>
            </a:r>
            <a:endParaRPr b="0" lang="en-US" sz="4400" spc="-1" strike="noStrike">
              <a:solidFill>
                <a:srgbClr val="000000"/>
              </a:solidFill>
              <a:latin typeface="Franklin Gothic Book"/>
            </a:endParaRPr>
          </a:p>
          <a:p>
            <a:pPr>
              <a:lnSpc>
                <a:spcPct val="100000"/>
              </a:lnSpc>
              <a:buClr>
                <a:srgbClr val="7030a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ea typeface="Times New Roman"/>
              </a:rPr>
              <a:t>children who are unable to walk to school by reason of their SEN, disability or mobility impairments (including temporary medical conditions)</a:t>
            </a:r>
            <a:endParaRPr b="0" lang="en-US" sz="3200" spc="-1" strike="noStrike">
              <a:solidFill>
                <a:srgbClr val="000000"/>
              </a:solidFill>
              <a:latin typeface="Franklin Gothic Book"/>
            </a:endParaRPr>
          </a:p>
          <a:p>
            <a:pPr>
              <a:lnSpc>
                <a:spcPct val="100000"/>
              </a:lnSpc>
              <a:buClr>
                <a:srgbClr val="7030a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ea typeface="Times New Roman"/>
              </a:rPr>
              <a:t>children unable to walk in safety to school owing to the nature of the route</a:t>
            </a:r>
            <a:endParaRPr b="0" lang="en-US" sz="3200" spc="-1" strike="noStrike">
              <a:solidFill>
                <a:srgbClr val="000000"/>
              </a:solidFill>
              <a:latin typeface="Franklin Gothic Book"/>
            </a:endParaRPr>
          </a:p>
          <a:p>
            <a:pPr>
              <a:lnSpc>
                <a:spcPct val="100000"/>
              </a:lnSpc>
              <a:buClr>
                <a:srgbClr val="7030a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ea typeface="Times New Roman"/>
              </a:rPr>
              <a:t>children with disabled parents.</a:t>
            </a:r>
            <a:endParaRPr b="0" lang="en-US" sz="3200" spc="-1" strike="noStrike">
              <a:solidFill>
                <a:srgbClr val="000000"/>
              </a:solidFill>
              <a:latin typeface="Franklin Gothic Book"/>
            </a:endParaRPr>
          </a:p>
          <a:p>
            <a:pPr>
              <a:lnSpc>
                <a:spcPct val="100000"/>
              </a:lnSpc>
              <a:buClr>
                <a:srgbClr val="7030a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ea typeface="Times New Roman"/>
              </a:rPr>
              <a:t>Are beind cared  for and looked after</a:t>
            </a:r>
            <a:endParaRPr b="0" lang="en-US" sz="3200" spc="-1" strike="noStrike">
              <a:solidFill>
                <a:srgbClr val="000000"/>
              </a:solidFill>
              <a:latin typeface="Franklin Gothic Book"/>
            </a:endParaRPr>
          </a:p>
        </p:txBody>
      </p:sp>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42840" y="-19080"/>
            <a:ext cx="9229680" cy="1933560"/>
          </a:xfrm>
          <a:prstGeom prst="rect">
            <a:avLst/>
          </a:prstGeom>
          <a:ln w="0">
            <a:noFill/>
          </a:ln>
        </p:spPr>
      </p:pic>
      <p:pic>
        <p:nvPicPr>
          <p:cNvPr id="416" name="ipf1EOeCgXxH0tR8M:" descr="http://t2.gstatic.com/images?q=tbn:ANd9GcQcnwZ_I9utjVDiMoOxj1qF14ivIwG9T2Zxb04lG4ta8bkaTSqcvoU3wXw">
            <a:hlinkClick r:id="rId2"/>
          </p:cNvPr>
          <p:cNvPicPr/>
          <p:nvPr/>
        </p:nvPicPr>
        <p:blipFill>
          <a:blip r:embed="rId3"/>
          <a:stretch/>
        </p:blipFill>
        <p:spPr>
          <a:xfrm>
            <a:off x="609480" y="2133720"/>
            <a:ext cx="3581640" cy="1904760"/>
          </a:xfrm>
          <a:prstGeom prst="rect">
            <a:avLst/>
          </a:prstGeom>
          <a:ln w="0">
            <a:noFill/>
          </a:ln>
        </p:spPr>
      </p:pic>
      <p:pic>
        <p:nvPicPr>
          <p:cNvPr id="417" name="ipfXsDpwTYKg80DxM:" descr="http://t1.gstatic.com/images?q=tbn:ANd9GcTYhORUscC2Hhcx0H1-4V7UAodslBZnSSY6pInNqiRsHYHewpnho_YxZZiB">
            <a:hlinkClick r:id="rId4"/>
          </p:cNvPr>
          <p:cNvPicPr/>
          <p:nvPr/>
        </p:nvPicPr>
        <p:blipFill>
          <a:blip r:embed="rId5"/>
          <a:stretch/>
        </p:blipFill>
        <p:spPr>
          <a:xfrm>
            <a:off x="4419720" y="2133720"/>
            <a:ext cx="4343400" cy="1866960"/>
          </a:xfrm>
          <a:prstGeom prst="rect">
            <a:avLst/>
          </a:prstGeom>
          <a:ln w="0">
            <a:noFill/>
          </a:ln>
        </p:spPr>
      </p:pic>
      <p:pic>
        <p:nvPicPr>
          <p:cNvPr id="418" name="5WXkjx7nZjV4OM:" descr="http://t0.gstatic.com/images?q=tbn:ANd9GcS1VMVl0-M_QZdvB_9H5HH8W4W94VJQ901DrFexrjTHFP-OIx9E-mUdhFcH">
            <a:hlinkClick r:id="rId6"/>
          </p:cNvPr>
          <p:cNvPicPr/>
          <p:nvPr/>
        </p:nvPicPr>
        <p:blipFill>
          <a:blip r:embed="rId7"/>
          <a:stretch/>
        </p:blipFill>
        <p:spPr>
          <a:xfrm>
            <a:off x="838080" y="4495680"/>
            <a:ext cx="4648320" cy="1905120"/>
          </a:xfrm>
          <a:prstGeom prst="rect">
            <a:avLst/>
          </a:prstGeom>
          <a:ln w="0">
            <a:noFill/>
          </a:ln>
        </p:spPr>
      </p:pic>
      <p:pic>
        <p:nvPicPr>
          <p:cNvPr id="419" name="ipf5GnlwZK3zK5esM:" descr="http://t1.gstatic.com/images?q=tbn:ANd9GcTOStTHmhUpNaviV2LgIHhkskS9Zmvfgx1hMlengPOaUm0ZJnZ4movReQ"/>
          <p:cNvPicPr/>
          <p:nvPr/>
        </p:nvPicPr>
        <p:blipFill>
          <a:blip r:embed="rId8"/>
          <a:stretch/>
        </p:blipFill>
        <p:spPr>
          <a:xfrm>
            <a:off x="5638680" y="4343400"/>
            <a:ext cx="2971800" cy="2514600"/>
          </a:xfrm>
          <a:prstGeom prst="rect">
            <a:avLst/>
          </a:prstGeom>
          <a:ln w="0">
            <a:noFill/>
          </a:ln>
        </p:spPr>
      </p:pic>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
          <p:cNvSpPr/>
          <p:nvPr/>
        </p:nvSpPr>
        <p:spPr>
          <a:xfrm>
            <a:off x="457200" y="252000"/>
            <a:ext cx="822960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50"/>
                </a:solidFill>
                <a:uFillTx/>
                <a:latin typeface="Times New Roman"/>
                <a:ea typeface="Times New Roman"/>
              </a:rPr>
              <a:t>Extramural Activities</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50"/>
                </a:solidFill>
                <a:uFillTx/>
                <a:latin typeface="Times New Roman"/>
                <a:ea typeface="Times New Roman"/>
              </a:rPr>
              <a:t>Introduction</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Times New Roman"/>
              </a:rPr>
              <a:t>The school offers a variety of sports and cultural activities, some offered as a club membership, others as team or individual pursuits. A well-rounded education must consist not only of the academic development of the learner, but also the social, cultural and physical development of the individual.</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Times New Roman"/>
              </a:rPr>
              <a:t>Sport is a healthy outlet for all the energy that young people possess, and is necessary for the proper development of young children. It provides an opportunity for each person to learn teamwork and how to interact with others in a less formal environment than the academic classroom.</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Times New Roman"/>
              </a:rPr>
              <a:t>Cultural activities expose children to a tiny proportion of the great diversity of experiences that the modern world offers. Music is a powerful medium of communication between peoples, and an ability to play a musical instrument or the opportunity to sing as part of a group will stand any learner in good stead.</a:t>
            </a:r>
            <a:endParaRPr b="0" lang="en-US" sz="18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Times New Roman"/>
              </a:rPr>
              <a:t>Club activities, to a greater or lesser extent depending on the nature of the club or society, allow the learners the freedom to start running their own group activities, and interact in a more adult manner with each other within the context of maintaining an organisation with all the inherent ramifications</a:t>
            </a:r>
            <a:r>
              <a:rPr b="0" lang="en-US" sz="1800" spc="-1" strike="noStrike">
                <a:solidFill>
                  <a:srgbClr val="fdbb30"/>
                </a:solidFill>
                <a:latin typeface="Arial"/>
                <a:ea typeface="Times New Roman"/>
              </a:rPr>
              <a:t>.</a:t>
            </a:r>
            <a:endParaRPr b="0" lang="en-US" sz="1800" spc="-1" strike="noStrike">
              <a:solidFill>
                <a:srgbClr val="000000"/>
              </a:solidFill>
              <a:latin typeface="Franklin Gothic Book"/>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79200" y="4919760"/>
            <a:ext cx="9204120" cy="1877760"/>
          </a:xfrm>
          <a:prstGeom prst="rect">
            <a:avLst/>
          </a:prstGeom>
          <a:ln w="0">
            <a:noFill/>
          </a:ln>
        </p:spPr>
      </p:pic>
      <p:sp>
        <p:nvSpPr>
          <p:cNvPr id="422" name="PlaceHolder 1"/>
          <p:cNvSpPr>
            <a:spLocks noGrp="1"/>
          </p:cNvSpPr>
          <p:nvPr>
            <p:ph/>
          </p:nvPr>
        </p:nvSpPr>
        <p:spPr>
          <a:xfrm>
            <a:off x="280800" y="666360"/>
            <a:ext cx="4290840" cy="639720"/>
          </a:xfrm>
          <a:prstGeom prst="rect">
            <a:avLst/>
          </a:prstGeom>
          <a:noFill/>
          <a:ln w="0">
            <a:noFill/>
          </a:ln>
        </p:spPr>
        <p:txBody>
          <a:bodyPr lIns="90000" rIns="90000" tIns="46800" bIns="46800" anchor="ctr">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761f"/>
                </a:solidFill>
                <a:latin typeface="Franklin Gothic Medium"/>
              </a:rPr>
              <a:t>SPORT ACTIVITIES</a:t>
            </a:r>
            <a:endParaRPr b="0" lang="en-US" sz="1800" spc="-1" strike="noStrike">
              <a:solidFill>
                <a:srgbClr val="4e3b30"/>
              </a:solidFill>
              <a:latin typeface="Franklin Gothic Book"/>
            </a:endParaRPr>
          </a:p>
        </p:txBody>
      </p:sp>
      <p:sp>
        <p:nvSpPr>
          <p:cNvPr id="423" name="PlaceHolder 2"/>
          <p:cNvSpPr>
            <a:spLocks noGrp="1"/>
          </p:cNvSpPr>
          <p:nvPr>
            <p:ph/>
          </p:nvPr>
        </p:nvSpPr>
        <p:spPr>
          <a:xfrm>
            <a:off x="4645080" y="666360"/>
            <a:ext cx="4292640" cy="639720"/>
          </a:xfrm>
          <a:prstGeom prst="rect">
            <a:avLst/>
          </a:prstGeom>
          <a:noFill/>
          <a:ln w="0">
            <a:noFill/>
          </a:ln>
        </p:spPr>
        <p:txBody>
          <a:bodyPr lIns="90000" rIns="90000" tIns="46800" bIns="46800" anchor="ctr">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761f"/>
                </a:solidFill>
                <a:latin typeface="Franklin Gothic Medium"/>
              </a:rPr>
              <a:t>CULTURAL ACTIVITIES</a:t>
            </a:r>
            <a:endParaRPr b="0" lang="en-US" sz="1800" spc="-1" strike="noStrike">
              <a:solidFill>
                <a:srgbClr val="4e3b30"/>
              </a:solidFill>
              <a:latin typeface="Franklin Gothic Book"/>
            </a:endParaRPr>
          </a:p>
        </p:txBody>
      </p:sp>
      <p:pic>
        <p:nvPicPr>
          <p:cNvPr id="424" name="Content Placeholder 6" descr="http://www.hmbschool.co.za/images/bushschool/09bus2.jpg"/>
          <p:cNvPicPr/>
          <p:nvPr/>
        </p:nvPicPr>
        <p:blipFill>
          <a:blip r:embed="rId2"/>
          <a:stretch/>
        </p:blipFill>
        <p:spPr>
          <a:xfrm>
            <a:off x="228600" y="2362320"/>
            <a:ext cx="4343400" cy="3429000"/>
          </a:xfrm>
          <a:prstGeom prst="rect">
            <a:avLst/>
          </a:prstGeom>
          <a:ln w="0">
            <a:noFill/>
          </a:ln>
        </p:spPr>
      </p:pic>
      <p:pic>
        <p:nvPicPr>
          <p:cNvPr id="425" name="Content Placeholder 7" descr="http://www.hmbschool.co.za/images/rugby/06rug4.jpg"/>
          <p:cNvPicPr/>
          <p:nvPr/>
        </p:nvPicPr>
        <p:blipFill>
          <a:blip r:embed="rId3"/>
          <a:stretch/>
        </p:blipFill>
        <p:spPr>
          <a:xfrm>
            <a:off x="4645080" y="2362320"/>
            <a:ext cx="4270320" cy="3429000"/>
          </a:xfrm>
          <a:prstGeom prst="rect">
            <a:avLst/>
          </a:prstGeom>
          <a:ln w="0">
            <a:noFill/>
          </a:ln>
        </p:spPr>
      </p:pic>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133200" y="268200"/>
            <a:ext cx="8864640" cy="1487520"/>
          </a:xfrm>
          <a:prstGeom prst="rect">
            <a:avLst/>
          </a:prstGeom>
          <a:ln w="0">
            <a:noFill/>
          </a:ln>
        </p:spPr>
      </p:pic>
      <p:sp>
        <p:nvSpPr>
          <p:cNvPr id="427" name=""/>
          <p:cNvSpPr txBox="1"/>
          <p:nvPr/>
        </p:nvSpPr>
        <p:spPr>
          <a:xfrm>
            <a:off x="304560" y="1599840"/>
            <a:ext cx="4190760" cy="472428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e3b30"/>
                </a:solidFill>
                <a:uFillTx/>
                <a:latin typeface="Franklin Gothic Book"/>
              </a:rPr>
              <a:t>CRICKET</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28" name=""/>
          <p:cNvSpPr txBox="1"/>
          <p:nvPr/>
        </p:nvSpPr>
        <p:spPr>
          <a:xfrm>
            <a:off x="4647960" y="1599840"/>
            <a:ext cx="4343400" cy="472428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UGBY</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pic>
        <p:nvPicPr>
          <p:cNvPr id="429" name="Picture 4" descr="http://www.hmbschool.co.za/images/cricket/09cri4.jpg"/>
          <p:cNvPicPr/>
          <p:nvPr/>
        </p:nvPicPr>
        <p:blipFill>
          <a:blip r:embed="rId2"/>
          <a:stretch/>
        </p:blipFill>
        <p:spPr>
          <a:xfrm>
            <a:off x="609480" y="2057400"/>
            <a:ext cx="3505320" cy="3200400"/>
          </a:xfrm>
          <a:prstGeom prst="rect">
            <a:avLst/>
          </a:prstGeom>
          <a:ln w="0">
            <a:noFill/>
          </a:ln>
        </p:spPr>
      </p:pic>
      <p:pic>
        <p:nvPicPr>
          <p:cNvPr id="430" name="Picture 6" descr="http://www.hmbschool.co.za/images/rugby/06rug4.jpg"/>
          <p:cNvPicPr/>
          <p:nvPr/>
        </p:nvPicPr>
        <p:blipFill>
          <a:blip r:embed="rId3"/>
          <a:stretch/>
        </p:blipFill>
        <p:spPr>
          <a:xfrm>
            <a:off x="4724280" y="2057400"/>
            <a:ext cx="3733920" cy="3200400"/>
          </a:xfrm>
          <a:prstGeom prst="rect">
            <a:avLst/>
          </a:prstGeom>
          <a:ln w="0">
            <a:noFill/>
          </a:ln>
        </p:spPr>
      </p:pic>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08:39:29Z</dcterms:created>
  <dc:creator>mponoyi</dc:creator>
  <dc:description/>
  <dc:language>en-US</dc:language>
  <cp:lastModifiedBy>Hannelie Jordaan</cp:lastModifiedBy>
  <dcterms:modified xsi:type="dcterms:W3CDTF">2012-02-06T15:02:25Z</dcterms:modified>
  <cp:revision>22</cp:revision>
  <dc:subject/>
  <dc:title>Slide 1</dc:title>
</cp:coreProperties>
</file>